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F9D-C687-475F-A627-F071E3FE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40C6-F39E-4C0A-A48F-DA3D21B6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EC1-2544-47B7-BED7-F4AC5D60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D2F-79A4-40E1-B75D-2055B6A1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82B0-F9C5-4FCC-988B-827897CE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B49A-9061-4492-80DA-305D11F9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3BD8-8E68-4A73-90A8-50C8EEE9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7DF7-FF9C-4624-9816-EE7C1906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F9C0-C85E-4C22-80AC-F081DBAA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CF5A-989B-4ED0-977E-AEA5F801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1AC0-11E5-4033-86C4-032FB116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3A2-665F-4339-985D-DA2A94D0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ECCC-F403-4771-BD23-2E4562A3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280E-C7D1-4D9B-93C4-104008BB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5F80-9646-4D65-8E1A-AC960BB2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3F33-C7E9-4887-AC2F-CA7A1018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F270-076A-472E-A4E8-FA4E55AE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E9C7D-5F53-41AA-9C69-1ADEBECB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EE3AF-36B5-43A0-AD67-A7A5A448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DC3E2-AA1F-4BFD-808D-1485C32A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5706A-072C-47DC-9348-7A0878BF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A6B8-3C6B-4280-9754-DE17CDC9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D8C-D6F3-4699-B22D-FF89E716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B4E3E-7216-4CF3-8947-11E543AA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34F40-3305-413C-BD97-3C7C96D5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FE39-2F47-4FAD-8682-DA65BF7D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E435-8FA0-4C25-9EE0-392B05AB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D85FE-79F2-4F0E-907A-3F589148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EA604-F0E4-4BB6-9AFC-E203EDF1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8D73-8B1C-495E-9C51-91B1FD05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E00D8-BD4B-4CAD-A61F-08CF4294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741AD-7983-40DA-956C-188D029F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3EC46-20C9-4D44-9F45-5580BD92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1A7-F2D8-4D78-BB4D-0D3356C0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693B4-99B9-44C0-A099-A68F1CA8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E16CA-735C-47B4-950E-98FB27DA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CFF10-D1F7-4AC5-8631-42EAD02C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B30A6-AB0A-4265-A38C-F3460910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66739-1431-4D68-8701-A4E61A24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41467-D1F5-43ED-8F09-B03514C9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DDD1-7DA2-4442-89C0-92D8B40A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3BAFD-46D8-43D0-8A9C-2E725542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FFFDC-214B-45E8-8E8B-426A4EF8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D3639-B69F-42FF-AFB3-11ECC50C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5ED-1F55-443F-9F06-9A107441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85A3F-9719-4D19-8E2A-5779391E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FBA2-C6EA-483F-8776-88F05611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2CE6D-E3DC-44AF-97DB-D0EEC6BB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A5A71-120D-4C9F-823E-B27367B4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EFBCA-54C8-4094-8668-0E3160A8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3859B-9A4E-46F9-A4E0-20487DC7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88878-CCF0-477F-A1C0-3669C62A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2D8F6-4105-4AF5-A92E-B6FB72A0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F3BFD-2473-4436-B90F-A60A71FA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AD00A-78C1-4AF3-B25C-BF900167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D2F-B912-49D7-ADD1-55467D8B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7E018-05E7-4B37-B3BC-7F107B51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CFFCC-7512-4179-83D7-D494A43F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ABD6A-74CE-47F9-9C95-3297DA92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1BE06-798E-4B2F-8FEB-2FC8EA2D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D5C10-E309-4303-9179-E01885FC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D456A-8D6F-452A-AA80-668B8967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F3B09-6C5C-4798-9352-A77BBA23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52192-37E4-4BF6-80CA-D55BC655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87321-15A8-4A30-88FB-AE7D1202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6CA5D-9CBA-45BC-96A9-F63A503D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6EA-8F33-42B4-9E13-752635DC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F387B-3D34-4449-9102-6A03767B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BEEBC-75C5-460D-9F74-F8AE48D3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0C811-4637-4072-9E56-21780715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D89EB-8C57-4CA6-9B25-7036DAEE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8AE4D-B290-4151-A75C-BA28B4BF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A554D-C99A-4948-A57F-64D6E77C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48C5F-8788-4183-AEAF-BA537ADF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6299F-74B6-4B17-9D1B-CF12B842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5CEB8-F153-44C0-94B6-B346D5D2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56155-922C-45AB-AA74-5D738FBB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F8B-2B19-4C39-9D46-C301ACA6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79F16-5130-42B8-87CE-4038C84A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41AD3-82A8-43A1-8F1F-C0C1B173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626EB-78EF-40E1-8E97-D76E2312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50815-2C73-44B2-9149-D0067D58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04842-0723-4CBB-89F4-346D5671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0D47-D8DB-45F1-B567-C444B583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A878-801A-4F37-8003-ED912C07BDE2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5C40-63C9-4B1E-BF09-DB20828A6122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3" descr="1"/>
          <p:cNvPicPr/>
          <p:nvPr/>
        </p:nvPicPr>
        <p:blipFill>
          <a:blip r:embed="rId2"/>
          <a:stretch/>
        </p:blipFill>
        <p:spPr>
          <a:xfrm>
            <a:off x="7950240" y="-23760"/>
            <a:ext cx="1225440" cy="112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3" descr="1"/>
          <p:cNvPicPr/>
          <p:nvPr/>
        </p:nvPicPr>
        <p:blipFill>
          <a:blip r:embed="rId2"/>
          <a:stretch/>
        </p:blipFill>
        <p:spPr>
          <a:xfrm>
            <a:off x="7950240" y="-23760"/>
            <a:ext cx="1225440" cy="112716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7"/>
          <p:cNvGrpSpPr/>
          <p:nvPr/>
        </p:nvGrpSpPr>
        <p:grpSpPr>
          <a:xfrm>
            <a:off x="0" y="0"/>
            <a:ext cx="9144000" cy="5163840"/>
            <a:chOff x="0" y="0"/>
            <a:chExt cx="9144000" cy="5163840"/>
          </a:xfrm>
        </p:grpSpPr>
        <p:sp>
          <p:nvSpPr>
            <p:cNvPr id="44" name="矩形 8"/>
            <p:cNvSpPr/>
            <p:nvPr/>
          </p:nvSpPr>
          <p:spPr>
            <a:xfrm>
              <a:off x="0" y="0"/>
              <a:ext cx="9144000" cy="5143320"/>
            </a:xfrm>
            <a:prstGeom prst="rect">
              <a:avLst/>
            </a:prstGeom>
            <a:solidFill>
              <a:srgbClr val="2747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" descr=""/>
            <p:cNvPicPr/>
            <p:nvPr/>
          </p:nvPicPr>
          <p:blipFill>
            <a:blip r:embed="rId3"/>
            <a:srcRect l="10137" t="60973" r="6864" b="0"/>
            <a:stretch/>
          </p:blipFill>
          <p:spPr>
            <a:xfrm rot="10800000">
              <a:off x="0" y="4443120"/>
              <a:ext cx="9144000" cy="72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43" descr="1"/>
          <p:cNvPicPr/>
          <p:nvPr/>
        </p:nvPicPr>
        <p:blipFill>
          <a:blip r:embed="rId4"/>
          <a:stretch/>
        </p:blipFill>
        <p:spPr>
          <a:xfrm>
            <a:off x="0" y="3517920"/>
            <a:ext cx="1763640" cy="1625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5E53-A641-42A2-8A7D-5792E111D94C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B0DF-1BE3-4603-9A2E-88FB103D684F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3" descr="1"/>
          <p:cNvPicPr/>
          <p:nvPr/>
        </p:nvPicPr>
        <p:blipFill>
          <a:blip r:embed="rId2"/>
          <a:stretch/>
        </p:blipFill>
        <p:spPr>
          <a:xfrm>
            <a:off x="7950240" y="-23760"/>
            <a:ext cx="1225440" cy="1127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rcRect l="0" t="5329" r="46869" b="6841"/>
          <a:stretch/>
        </p:blipFill>
        <p:spPr>
          <a:xfrm>
            <a:off x="0" y="0"/>
            <a:ext cx="4978440" cy="5143680"/>
          </a:xfrm>
          <a:prstGeom prst="rect">
            <a:avLst/>
          </a:prstGeom>
          <a:ln w="0">
            <a:noFill/>
          </a:ln>
        </p:spPr>
      </p:pic>
      <p:sp>
        <p:nvSpPr>
          <p:cNvPr id="90" name="矩形 8"/>
          <p:cNvSpPr/>
          <p:nvPr/>
        </p:nvSpPr>
        <p:spPr>
          <a:xfrm>
            <a:off x="5003640" y="0"/>
            <a:ext cx="4140360" cy="5143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8532720" y="0"/>
            <a:ext cx="81000" cy="1008000"/>
          </a:xfrm>
          <a:prstGeom prst="rect">
            <a:avLst/>
          </a:pr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D406-223C-4D85-9719-1D2F3B6BB766}" type="datetime"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946C-29D5-425F-A651-B6A128EAF4EC}" type="slidenum"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3" descr="1"/>
          <p:cNvPicPr/>
          <p:nvPr/>
        </p:nvPicPr>
        <p:blipFill>
          <a:blip r:embed="rId2"/>
          <a:stretch/>
        </p:blipFill>
        <p:spPr>
          <a:xfrm>
            <a:off x="7950240" y="-23760"/>
            <a:ext cx="1225440" cy="1127160"/>
          </a:xfrm>
          <a:prstGeom prst="rect">
            <a:avLst/>
          </a:prstGeom>
          <a:ln w="0">
            <a:noFill/>
          </a:ln>
        </p:spPr>
      </p:pic>
      <p:sp>
        <p:nvSpPr>
          <p:cNvPr id="134" name="矩形 7"/>
          <p:cNvSpPr/>
          <p:nvPr/>
        </p:nvSpPr>
        <p:spPr>
          <a:xfrm>
            <a:off x="0" y="0"/>
            <a:ext cx="1116000" cy="1058760"/>
          </a:xfrm>
          <a:custGeom>
            <a:avLst/>
            <a:gdLst>
              <a:gd name="textAreaLeft" fmla="*/ 0 w 1116000"/>
              <a:gd name="textAreaRight" fmla="*/ 1116360 w 111600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1115616" h="1059582">
                <a:moveTo>
                  <a:pt x="0" y="0"/>
                </a:moveTo>
                <a:lnTo>
                  <a:pt x="1115616" y="0"/>
                </a:lnTo>
                <a:lnTo>
                  <a:pt x="1115616" y="1059582"/>
                </a:lnTo>
                <a:lnTo>
                  <a:pt x="560475" y="1059582"/>
                </a:lnTo>
                <a:lnTo>
                  <a:pt x="336469" y="840700"/>
                </a:lnTo>
                <a:lnTo>
                  <a:pt x="390118" y="1059582"/>
                </a:lnTo>
                <a:lnTo>
                  <a:pt x="0" y="1059582"/>
                </a:lnTo>
                <a:lnTo>
                  <a:pt x="0" y="0"/>
                </a:lnTo>
                <a:close/>
              </a:path>
            </a:pathLst>
          </a:cu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8"/>
          <p:cNvGrpSpPr/>
          <p:nvPr/>
        </p:nvGrpSpPr>
        <p:grpSpPr>
          <a:xfrm>
            <a:off x="7794720" y="4284000"/>
            <a:ext cx="1501200" cy="1210680"/>
            <a:chOff x="7794720" y="4284000"/>
            <a:chExt cx="1501200" cy="1210680"/>
          </a:xfrm>
        </p:grpSpPr>
        <p:pic>
          <p:nvPicPr>
            <p:cNvPr id="136" name="Picture 7" descr=""/>
            <p:cNvPicPr/>
            <p:nvPr/>
          </p:nvPicPr>
          <p:blipFill>
            <a:blip r:embed="rId3"/>
            <a:srcRect l="0" t="0" r="0" b="50031"/>
            <a:stretch/>
          </p:blipFill>
          <p:spPr>
            <a:xfrm rot="7960800">
              <a:off x="8109720" y="4648680"/>
              <a:ext cx="1203120" cy="48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五边形 12"/>
            <p:cNvGrpSpPr/>
            <p:nvPr/>
          </p:nvGrpSpPr>
          <p:grpSpPr>
            <a:xfrm>
              <a:off x="7794720" y="4578480"/>
              <a:ext cx="897840" cy="310320"/>
              <a:chOff x="7794720" y="4578480"/>
              <a:chExt cx="897840" cy="310320"/>
            </a:xfrm>
          </p:grpSpPr>
          <p:pic>
            <p:nvPicPr>
              <p:cNvPr id="138" name="五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7797240" y="4578480"/>
                <a:ext cx="895320" cy="30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Text Box 8"/>
              <p:cNvSpPr/>
              <p:nvPr/>
            </p:nvSpPr>
            <p:spPr>
              <a:xfrm>
                <a:off x="7794720" y="4578480"/>
                <a:ext cx="89496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7D8A-69A8-4490-8817-687EFC42AB9D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700000" y="47667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884720" y="4587480"/>
            <a:ext cx="5540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DA94-507F-4355-BB6F-D721BFFA0E22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3" descr="1"/>
          <p:cNvPicPr/>
          <p:nvPr/>
        </p:nvPicPr>
        <p:blipFill>
          <a:blip r:embed="rId2"/>
          <a:stretch/>
        </p:blipFill>
        <p:spPr>
          <a:xfrm>
            <a:off x="7950240" y="-23760"/>
            <a:ext cx="1225440" cy="1127160"/>
          </a:xfrm>
          <a:prstGeom prst="rect">
            <a:avLst/>
          </a:prstGeom>
          <a:ln w="0">
            <a:noFill/>
          </a:ln>
        </p:spPr>
      </p:pic>
      <p:sp>
        <p:nvSpPr>
          <p:cNvPr id="182" name="矩形 7"/>
          <p:cNvSpPr/>
          <p:nvPr/>
        </p:nvSpPr>
        <p:spPr>
          <a:xfrm>
            <a:off x="0" y="0"/>
            <a:ext cx="1116000" cy="1058760"/>
          </a:xfrm>
          <a:custGeom>
            <a:avLst/>
            <a:gdLst>
              <a:gd name="textAreaLeft" fmla="*/ 0 w 1116000"/>
              <a:gd name="textAreaRight" fmla="*/ 1116360 w 111600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1115616" h="1059582">
                <a:moveTo>
                  <a:pt x="0" y="0"/>
                </a:moveTo>
                <a:lnTo>
                  <a:pt x="1115616" y="0"/>
                </a:lnTo>
                <a:lnTo>
                  <a:pt x="1115616" y="1059582"/>
                </a:lnTo>
                <a:lnTo>
                  <a:pt x="560475" y="1059582"/>
                </a:lnTo>
                <a:lnTo>
                  <a:pt x="336469" y="840700"/>
                </a:lnTo>
                <a:lnTo>
                  <a:pt x="390118" y="1059582"/>
                </a:lnTo>
                <a:lnTo>
                  <a:pt x="0" y="1059582"/>
                </a:lnTo>
                <a:lnTo>
                  <a:pt x="0" y="0"/>
                </a:lnTo>
                <a:close/>
              </a:path>
            </a:pathLst>
          </a:cu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8"/>
          <p:cNvGrpSpPr/>
          <p:nvPr/>
        </p:nvGrpSpPr>
        <p:grpSpPr>
          <a:xfrm>
            <a:off x="7794720" y="4287960"/>
            <a:ext cx="1157040" cy="1203120"/>
            <a:chOff x="7794720" y="4287960"/>
            <a:chExt cx="1157040" cy="1203120"/>
          </a:xfrm>
        </p:grpSpPr>
        <p:pic>
          <p:nvPicPr>
            <p:cNvPr id="184" name="Picture 7" descr=""/>
            <p:cNvPicPr/>
            <p:nvPr/>
          </p:nvPicPr>
          <p:blipFill>
            <a:blip r:embed="rId3"/>
            <a:stretch/>
          </p:blipFill>
          <p:spPr>
            <a:xfrm>
              <a:off x="8047440" y="4287960"/>
              <a:ext cx="904320" cy="120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五边形 12"/>
            <p:cNvGrpSpPr/>
            <p:nvPr/>
          </p:nvGrpSpPr>
          <p:grpSpPr>
            <a:xfrm>
              <a:off x="7794720" y="4582800"/>
              <a:ext cx="688680" cy="306720"/>
              <a:chOff x="7794720" y="4582800"/>
              <a:chExt cx="688680" cy="306720"/>
            </a:xfrm>
          </p:grpSpPr>
          <p:pic>
            <p:nvPicPr>
              <p:cNvPr id="186" name="五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7796880" y="4582800"/>
                <a:ext cx="686520" cy="30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Text Box 8"/>
              <p:cNvSpPr/>
              <p:nvPr/>
            </p:nvSpPr>
            <p:spPr>
              <a:xfrm>
                <a:off x="7794720" y="4582800"/>
                <a:ext cx="68652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A02A-F02F-4773-9DB0-660EFBBAC089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700000" y="47667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84720" y="4587480"/>
            <a:ext cx="5540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FB9F-94EC-4E73-8FE6-0B08B9F1836B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3" descr="1"/>
          <p:cNvPicPr/>
          <p:nvPr/>
        </p:nvPicPr>
        <p:blipFill>
          <a:blip r:embed="rId2"/>
          <a:stretch/>
        </p:blipFill>
        <p:spPr>
          <a:xfrm>
            <a:off x="7950240" y="-23760"/>
            <a:ext cx="1225440" cy="1127160"/>
          </a:xfrm>
          <a:prstGeom prst="rect">
            <a:avLst/>
          </a:prstGeom>
          <a:ln w="0">
            <a:noFill/>
          </a:ln>
        </p:spPr>
      </p:pic>
      <p:sp>
        <p:nvSpPr>
          <p:cNvPr id="230" name="矩形 7"/>
          <p:cNvSpPr/>
          <p:nvPr/>
        </p:nvSpPr>
        <p:spPr>
          <a:xfrm>
            <a:off x="0" y="0"/>
            <a:ext cx="1116000" cy="1058760"/>
          </a:xfrm>
          <a:custGeom>
            <a:avLst/>
            <a:gdLst>
              <a:gd name="textAreaLeft" fmla="*/ 0 w 1116000"/>
              <a:gd name="textAreaRight" fmla="*/ 1116360 w 111600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1115616" h="1059582">
                <a:moveTo>
                  <a:pt x="0" y="0"/>
                </a:moveTo>
                <a:lnTo>
                  <a:pt x="1115616" y="0"/>
                </a:lnTo>
                <a:lnTo>
                  <a:pt x="1115616" y="1059582"/>
                </a:lnTo>
                <a:lnTo>
                  <a:pt x="560475" y="1059582"/>
                </a:lnTo>
                <a:lnTo>
                  <a:pt x="336469" y="840700"/>
                </a:lnTo>
                <a:lnTo>
                  <a:pt x="390118" y="1059582"/>
                </a:lnTo>
                <a:lnTo>
                  <a:pt x="0" y="1059582"/>
                </a:lnTo>
                <a:lnTo>
                  <a:pt x="0" y="0"/>
                </a:lnTo>
                <a:close/>
              </a:path>
            </a:pathLst>
          </a:cu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8"/>
          <p:cNvGrpSpPr/>
          <p:nvPr/>
        </p:nvGrpSpPr>
        <p:grpSpPr>
          <a:xfrm>
            <a:off x="7794720" y="4287960"/>
            <a:ext cx="1157040" cy="1203120"/>
            <a:chOff x="7794720" y="4287960"/>
            <a:chExt cx="1157040" cy="1203120"/>
          </a:xfrm>
        </p:grpSpPr>
        <p:pic>
          <p:nvPicPr>
            <p:cNvPr id="232" name="Picture 7" descr=""/>
            <p:cNvPicPr/>
            <p:nvPr/>
          </p:nvPicPr>
          <p:blipFill>
            <a:blip r:embed="rId3"/>
            <a:stretch/>
          </p:blipFill>
          <p:spPr>
            <a:xfrm>
              <a:off x="8047440" y="4287960"/>
              <a:ext cx="904320" cy="120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" name="五边形 12"/>
            <p:cNvGrpSpPr/>
            <p:nvPr/>
          </p:nvGrpSpPr>
          <p:grpSpPr>
            <a:xfrm>
              <a:off x="7794720" y="4582800"/>
              <a:ext cx="688680" cy="306720"/>
              <a:chOff x="7794720" y="4582800"/>
              <a:chExt cx="688680" cy="306720"/>
            </a:xfrm>
          </p:grpSpPr>
          <p:pic>
            <p:nvPicPr>
              <p:cNvPr id="234" name="五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7796880" y="4582800"/>
                <a:ext cx="686520" cy="30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Text Box 8"/>
              <p:cNvSpPr/>
              <p:nvPr/>
            </p:nvSpPr>
            <p:spPr>
              <a:xfrm>
                <a:off x="7794720" y="4582800"/>
                <a:ext cx="68652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AA21-6B52-4E03-81A2-5E486074104D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700000" y="47667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7884720" y="4587480"/>
            <a:ext cx="5540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3260-7440-4B7C-A763-BB84A0C345DE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3" descr="1"/>
          <p:cNvPicPr/>
          <p:nvPr/>
        </p:nvPicPr>
        <p:blipFill>
          <a:blip r:embed="rId2"/>
          <a:stretch/>
        </p:blipFill>
        <p:spPr>
          <a:xfrm>
            <a:off x="7950240" y="-23760"/>
            <a:ext cx="1225440" cy="1127160"/>
          </a:xfrm>
          <a:prstGeom prst="rect">
            <a:avLst/>
          </a:prstGeom>
          <a:ln w="0">
            <a:noFill/>
          </a:ln>
        </p:spPr>
      </p:pic>
      <p:sp>
        <p:nvSpPr>
          <p:cNvPr id="278" name="矩形 7"/>
          <p:cNvSpPr/>
          <p:nvPr/>
        </p:nvSpPr>
        <p:spPr>
          <a:xfrm>
            <a:off x="0" y="0"/>
            <a:ext cx="1116000" cy="1058760"/>
          </a:xfrm>
          <a:custGeom>
            <a:avLst/>
            <a:gdLst>
              <a:gd name="textAreaLeft" fmla="*/ 0 w 1116000"/>
              <a:gd name="textAreaRight" fmla="*/ 1116360 w 111600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1115616" h="1059582">
                <a:moveTo>
                  <a:pt x="0" y="0"/>
                </a:moveTo>
                <a:lnTo>
                  <a:pt x="1115616" y="0"/>
                </a:lnTo>
                <a:lnTo>
                  <a:pt x="1115616" y="1059582"/>
                </a:lnTo>
                <a:lnTo>
                  <a:pt x="560475" y="1059582"/>
                </a:lnTo>
                <a:lnTo>
                  <a:pt x="336469" y="840700"/>
                </a:lnTo>
                <a:lnTo>
                  <a:pt x="390118" y="1059582"/>
                </a:lnTo>
                <a:lnTo>
                  <a:pt x="0" y="1059582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组合 8"/>
          <p:cNvGrpSpPr/>
          <p:nvPr/>
        </p:nvGrpSpPr>
        <p:grpSpPr>
          <a:xfrm>
            <a:off x="7794720" y="4287960"/>
            <a:ext cx="1157040" cy="1203120"/>
            <a:chOff x="7794720" y="4287960"/>
            <a:chExt cx="1157040" cy="1203120"/>
          </a:xfrm>
        </p:grpSpPr>
        <p:pic>
          <p:nvPicPr>
            <p:cNvPr id="280" name="Picture 7" descr=""/>
            <p:cNvPicPr/>
            <p:nvPr/>
          </p:nvPicPr>
          <p:blipFill>
            <a:blip r:embed="rId3"/>
            <a:stretch/>
          </p:blipFill>
          <p:spPr>
            <a:xfrm>
              <a:off x="8047440" y="4287960"/>
              <a:ext cx="904320" cy="120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1" name="五边形 12"/>
            <p:cNvGrpSpPr/>
            <p:nvPr/>
          </p:nvGrpSpPr>
          <p:grpSpPr>
            <a:xfrm>
              <a:off x="7794720" y="4582800"/>
              <a:ext cx="688680" cy="306720"/>
              <a:chOff x="7794720" y="4582800"/>
              <a:chExt cx="688680" cy="306720"/>
            </a:xfrm>
          </p:grpSpPr>
          <p:pic>
            <p:nvPicPr>
              <p:cNvPr id="282" name="五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7796880" y="4582800"/>
                <a:ext cx="686520" cy="30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Text Box 8"/>
              <p:cNvSpPr/>
              <p:nvPr/>
            </p:nvSpPr>
            <p:spPr>
              <a:xfrm>
                <a:off x="7794720" y="4582800"/>
                <a:ext cx="68652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517E-33D8-47A8-947C-B8D2E17AC349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2700000" y="47667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7884720" y="4587480"/>
            <a:ext cx="5540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4191-E2A6-420F-BE1E-08BD74712E14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2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2.xml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0685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1b921"/>
                </a:solidFill>
                <a:latin typeface="微软雅黑"/>
              </a:rPr>
              <a:t>多彩农业简洁大气商务模板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6" name="矩形 9"/>
          <p:cNvSpPr/>
          <p:nvPr/>
        </p:nvSpPr>
        <p:spPr>
          <a:xfrm>
            <a:off x="3511440" y="3819600"/>
            <a:ext cx="173988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3588840" y="3832200"/>
            <a:ext cx="30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8f19"/>
                </a:solidFill>
                <a:latin typeface="Arial"/>
              </a:rPr>
              <a:t>https://liangliangtuwen.tmal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8"/>
          <p:cNvGrpSpPr/>
          <p:nvPr/>
        </p:nvGrpSpPr>
        <p:grpSpPr>
          <a:xfrm>
            <a:off x="5305320" y="3809880"/>
            <a:ext cx="346320" cy="346320"/>
            <a:chOff x="5305320" y="3809880"/>
            <a:chExt cx="346320" cy="346320"/>
          </a:xfrm>
        </p:grpSpPr>
        <p:sp>
          <p:nvSpPr>
            <p:cNvPr id="329" name="圆角矩形 6"/>
            <p:cNvSpPr/>
            <p:nvPr/>
          </p:nvSpPr>
          <p:spPr>
            <a:xfrm>
              <a:off x="5305320" y="3809880"/>
              <a:ext cx="346320" cy="346320"/>
            </a:xfrm>
            <a:prstGeom prst="roundRect">
              <a:avLst>
                <a:gd name="adj" fmla="val 16667"/>
              </a:avLst>
            </a:prstGeom>
            <a:solidFill>
              <a:srgbClr val="91b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5"/>
            <p:cNvSpPr/>
            <p:nvPr/>
          </p:nvSpPr>
          <p:spPr>
            <a:xfrm>
              <a:off x="5344920" y="3873240"/>
              <a:ext cx="266760" cy="2196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894192" h="1559964">
                  <a:moveTo>
                    <a:pt x="648072" y="196871"/>
                  </a:moveTo>
                  <a:cubicBezTo>
                    <a:pt x="398881" y="196871"/>
                    <a:pt x="196871" y="398881"/>
                    <a:pt x="196871" y="648072"/>
                  </a:cubicBezTo>
                  <a:cubicBezTo>
                    <a:pt x="196871" y="897263"/>
                    <a:pt x="398881" y="1099274"/>
                    <a:pt x="648072" y="1099273"/>
                  </a:cubicBezTo>
                  <a:cubicBezTo>
                    <a:pt x="897264" y="1099273"/>
                    <a:pt x="1099274" y="897263"/>
                    <a:pt x="1099273" y="648072"/>
                  </a:cubicBezTo>
                  <a:cubicBezTo>
                    <a:pt x="1099273" y="398881"/>
                    <a:pt x="897263" y="196871"/>
                    <a:pt x="648072" y="196871"/>
                  </a:cubicBezTo>
                  <a:close/>
                  <a:moveTo>
                    <a:pt x="648072" y="0"/>
                  </a:moveTo>
                  <a:cubicBezTo>
                    <a:pt x="1005992" y="0"/>
                    <a:pt x="1296144" y="290152"/>
                    <a:pt x="1296144" y="648072"/>
                  </a:cubicBezTo>
                  <a:cubicBezTo>
                    <a:pt x="1296144" y="732769"/>
                    <a:pt x="1279897" y="813671"/>
                    <a:pt x="1249233" y="887388"/>
                  </a:cubicBezTo>
                  <a:lnTo>
                    <a:pt x="1276129" y="906769"/>
                  </a:lnTo>
                  <a:lnTo>
                    <a:pt x="1285775" y="906769"/>
                  </a:lnTo>
                  <a:lnTo>
                    <a:pt x="1285775" y="913720"/>
                  </a:lnTo>
                  <a:lnTo>
                    <a:pt x="1837093" y="1311006"/>
                  </a:lnTo>
                  <a:cubicBezTo>
                    <a:pt x="1898676" y="1355383"/>
                    <a:pt x="1912624" y="1441282"/>
                    <a:pt x="1868247" y="1502865"/>
                  </a:cubicBezTo>
                  <a:cubicBezTo>
                    <a:pt x="1823869" y="1564448"/>
                    <a:pt x="1737970" y="1578396"/>
                    <a:pt x="1676387" y="1534019"/>
                  </a:cubicBezTo>
                  <a:lnTo>
                    <a:pt x="1095395" y="1115349"/>
                  </a:lnTo>
                  <a:cubicBezTo>
                    <a:pt x="979830" y="1227670"/>
                    <a:pt x="821948" y="1296144"/>
                    <a:pt x="648072" y="1296144"/>
                  </a:cubicBezTo>
                  <a:cubicBezTo>
                    <a:pt x="290152" y="1296145"/>
                    <a:pt x="0" y="1005992"/>
                    <a:pt x="0" y="648072"/>
                  </a:cubicBezTo>
                  <a:cubicBezTo>
                    <a:pt x="0" y="290152"/>
                    <a:pt x="290152" y="0"/>
                    <a:pt x="64807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3"/>
          <p:cNvGrpSpPr/>
          <p:nvPr/>
        </p:nvGrpSpPr>
        <p:grpSpPr>
          <a:xfrm>
            <a:off x="1100160" y="820800"/>
            <a:ext cx="6943680" cy="1011240"/>
            <a:chOff x="1100160" y="820800"/>
            <a:chExt cx="6943680" cy="1011240"/>
          </a:xfrm>
        </p:grpSpPr>
        <p:pic>
          <p:nvPicPr>
            <p:cNvPr id="332" name="Picture 3" descr=""/>
            <p:cNvPicPr/>
            <p:nvPr/>
          </p:nvPicPr>
          <p:blipFill>
            <a:blip r:embed="rId1"/>
            <a:stretch/>
          </p:blipFill>
          <p:spPr>
            <a:xfrm>
              <a:off x="1100160" y="821880"/>
              <a:ext cx="1308240" cy="101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4" descr=""/>
            <p:cNvPicPr/>
            <p:nvPr/>
          </p:nvPicPr>
          <p:blipFill>
            <a:blip r:embed="rId2"/>
            <a:stretch/>
          </p:blipFill>
          <p:spPr>
            <a:xfrm>
              <a:off x="2430360" y="821880"/>
              <a:ext cx="1469880" cy="101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6" descr=""/>
            <p:cNvPicPr/>
            <p:nvPr/>
          </p:nvPicPr>
          <p:blipFill>
            <a:blip r:embed="rId3"/>
            <a:stretch/>
          </p:blipFill>
          <p:spPr>
            <a:xfrm>
              <a:off x="3922200" y="821880"/>
              <a:ext cx="141804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8" descr=""/>
            <p:cNvPicPr/>
            <p:nvPr/>
          </p:nvPicPr>
          <p:blipFill>
            <a:blip r:embed="rId4"/>
            <a:stretch/>
          </p:blipFill>
          <p:spPr>
            <a:xfrm>
              <a:off x="5362200" y="820800"/>
              <a:ext cx="130932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9" descr=""/>
            <p:cNvPicPr/>
            <p:nvPr/>
          </p:nvPicPr>
          <p:blipFill>
            <a:blip r:embed="rId5"/>
            <a:stretch/>
          </p:blipFill>
          <p:spPr>
            <a:xfrm>
              <a:off x="6693480" y="820800"/>
              <a:ext cx="1350360" cy="100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36912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708f19"/>
                </a:solidFill>
                <a:latin typeface="微软雅黑"/>
              </a:rPr>
              <a:t>亮亮图文旗舰店</a:t>
            </a:r>
            <a:endParaRPr b="0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"/>
          <p:cNvPicPr/>
          <p:nvPr/>
        </p:nvPicPr>
        <p:blipFill>
          <a:blip r:embed="rId1"/>
          <a:srcRect l="0" t="81937" r="0" b="0"/>
          <a:stretch/>
        </p:blipFill>
        <p:spPr>
          <a:xfrm>
            <a:off x="4578480" y="4668840"/>
            <a:ext cx="2297160" cy="3380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"/>
          <p:cNvPicPr/>
          <p:nvPr/>
        </p:nvPicPr>
        <p:blipFill>
          <a:blip r:embed="rId2"/>
          <a:srcRect l="0" t="81937" r="0" b="0"/>
          <a:stretch/>
        </p:blipFill>
        <p:spPr>
          <a:xfrm>
            <a:off x="1824120" y="4687920"/>
            <a:ext cx="2592360" cy="3366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"/>
          <p:cNvPicPr/>
          <p:nvPr/>
        </p:nvPicPr>
        <p:blipFill>
          <a:blip r:embed="rId3"/>
          <a:srcRect l="0" t="81937" r="0" b="0"/>
          <a:stretch/>
        </p:blipFill>
        <p:spPr>
          <a:xfrm>
            <a:off x="3419640" y="2830680"/>
            <a:ext cx="2592360" cy="3380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"/>
          <p:cNvPicPr/>
          <p:nvPr/>
        </p:nvPicPr>
        <p:blipFill>
          <a:blip r:embed="rId4"/>
          <a:srcRect l="0" t="81937" r="0" b="0"/>
          <a:stretch/>
        </p:blipFill>
        <p:spPr>
          <a:xfrm>
            <a:off x="612720" y="2830680"/>
            <a:ext cx="2592360" cy="33804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1" name="灯片编号占位符 3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65BC-3D9B-4B1A-B5FD-FB0AA535F370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5"/>
          <p:cNvSpPr/>
          <p:nvPr/>
        </p:nvSpPr>
        <p:spPr>
          <a:xfrm>
            <a:off x="612720" y="1270080"/>
            <a:ext cx="2592360" cy="1584360"/>
          </a:xfrm>
          <a:prstGeom prst="rect">
            <a:avLst/>
          </a:prstGeom>
          <a:solidFill>
            <a:srgbClr val="91b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5"/>
          <p:cNvSpPr/>
          <p:nvPr/>
        </p:nvSpPr>
        <p:spPr>
          <a:xfrm>
            <a:off x="3575160" y="1241280"/>
            <a:ext cx="2436840" cy="1613160"/>
          </a:xfrm>
          <a:prstGeom prst="rect">
            <a:avLst/>
          </a:pr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30"/>
          <p:cNvSpPr/>
          <p:nvPr/>
        </p:nvSpPr>
        <p:spPr>
          <a:xfrm>
            <a:off x="1909800" y="3049560"/>
            <a:ext cx="2446200" cy="1662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0"/>
          <p:cNvSpPr/>
          <p:nvPr/>
        </p:nvSpPr>
        <p:spPr>
          <a:xfrm>
            <a:off x="4675320" y="3049560"/>
            <a:ext cx="2200320" cy="1662120"/>
          </a:xfrm>
          <a:prstGeom prst="rect">
            <a:avLst/>
          </a:pr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8" descr=""/>
          <p:cNvPicPr/>
          <p:nvPr/>
        </p:nvPicPr>
        <p:blipFill>
          <a:blip r:embed="rId5"/>
          <a:stretch/>
        </p:blipFill>
        <p:spPr>
          <a:xfrm>
            <a:off x="6875640" y="2066760"/>
            <a:ext cx="1618920" cy="308772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2"/>
          <p:cNvSpPr/>
          <p:nvPr/>
        </p:nvSpPr>
        <p:spPr>
          <a:xfrm>
            <a:off x="793800" y="179532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插入奖牌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3679920" y="181620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插入奖牌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2016000" y="3579840"/>
            <a:ext cx="223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插入奖牌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4643280" y="3579840"/>
            <a:ext cx="223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插入奖牌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1187280" y="336600"/>
            <a:ext cx="3065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b921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32"/>
          <p:cNvSpPr/>
          <p:nvPr/>
        </p:nvSpPr>
        <p:spPr>
          <a:xfrm>
            <a:off x="324720" y="250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33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53"/>
          <p:cNvSpPr/>
          <p:nvPr/>
        </p:nvSpPr>
        <p:spPr>
          <a:xfrm>
            <a:off x="5607000" y="1249200"/>
            <a:ext cx="2997360" cy="687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53"/>
          <p:cNvSpPr/>
          <p:nvPr/>
        </p:nvSpPr>
        <p:spPr>
          <a:xfrm>
            <a:off x="5607000" y="2050920"/>
            <a:ext cx="2997360" cy="687600"/>
          </a:xfrm>
          <a:prstGeom prst="rect">
            <a:avLst/>
          </a:pr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3"/>
          <p:cNvSpPr/>
          <p:nvPr/>
        </p:nvSpPr>
        <p:spPr>
          <a:xfrm>
            <a:off x="5607000" y="2854440"/>
            <a:ext cx="2997360" cy="687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3"/>
          <p:cNvSpPr/>
          <p:nvPr/>
        </p:nvSpPr>
        <p:spPr>
          <a:xfrm>
            <a:off x="5607000" y="3656160"/>
            <a:ext cx="2997360" cy="687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灯片编号占位符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B54A-1BD9-4912-B4FD-1FC5947E928C}" type="slidenum"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35"/>
          <p:cNvSpPr/>
          <p:nvPr/>
        </p:nvSpPr>
        <p:spPr>
          <a:xfrm>
            <a:off x="1403280" y="4395960"/>
            <a:ext cx="173988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36"/>
          <p:cNvSpPr/>
          <p:nvPr/>
        </p:nvSpPr>
        <p:spPr>
          <a:xfrm>
            <a:off x="1767960" y="44067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公司网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25"/>
          <p:cNvGrpSpPr/>
          <p:nvPr/>
        </p:nvGrpSpPr>
        <p:grpSpPr>
          <a:xfrm>
            <a:off x="3197160" y="4386240"/>
            <a:ext cx="346320" cy="345960"/>
            <a:chOff x="3197160" y="4386240"/>
            <a:chExt cx="346320" cy="345960"/>
          </a:xfrm>
        </p:grpSpPr>
        <p:sp>
          <p:nvSpPr>
            <p:cNvPr id="482" name="圆角矩形 26"/>
            <p:cNvSpPr/>
            <p:nvPr/>
          </p:nvSpPr>
          <p:spPr>
            <a:xfrm>
              <a:off x="3197160" y="4386240"/>
              <a:ext cx="346320" cy="345960"/>
            </a:xfrm>
            <a:prstGeom prst="roundRect">
              <a:avLst>
                <a:gd name="adj" fmla="val 16667"/>
              </a:avLst>
            </a:prstGeom>
            <a:solidFill>
              <a:srgbClr val="91b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5"/>
            <p:cNvSpPr/>
            <p:nvPr/>
          </p:nvSpPr>
          <p:spPr>
            <a:xfrm>
              <a:off x="3236760" y="4449600"/>
              <a:ext cx="266760" cy="219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894192" h="1559964">
                  <a:moveTo>
                    <a:pt x="648072" y="196871"/>
                  </a:moveTo>
                  <a:cubicBezTo>
                    <a:pt x="398881" y="196871"/>
                    <a:pt x="196871" y="398881"/>
                    <a:pt x="196871" y="648072"/>
                  </a:cubicBezTo>
                  <a:cubicBezTo>
                    <a:pt x="196871" y="897263"/>
                    <a:pt x="398881" y="1099274"/>
                    <a:pt x="648072" y="1099273"/>
                  </a:cubicBezTo>
                  <a:cubicBezTo>
                    <a:pt x="897264" y="1099273"/>
                    <a:pt x="1099274" y="897263"/>
                    <a:pt x="1099273" y="648072"/>
                  </a:cubicBezTo>
                  <a:cubicBezTo>
                    <a:pt x="1099273" y="398881"/>
                    <a:pt x="897263" y="196871"/>
                    <a:pt x="648072" y="196871"/>
                  </a:cubicBezTo>
                  <a:close/>
                  <a:moveTo>
                    <a:pt x="648072" y="0"/>
                  </a:moveTo>
                  <a:cubicBezTo>
                    <a:pt x="1005992" y="0"/>
                    <a:pt x="1296144" y="290152"/>
                    <a:pt x="1296144" y="648072"/>
                  </a:cubicBezTo>
                  <a:cubicBezTo>
                    <a:pt x="1296144" y="732769"/>
                    <a:pt x="1279897" y="813671"/>
                    <a:pt x="1249233" y="887388"/>
                  </a:cubicBezTo>
                  <a:lnTo>
                    <a:pt x="1276129" y="906769"/>
                  </a:lnTo>
                  <a:lnTo>
                    <a:pt x="1285775" y="906769"/>
                  </a:lnTo>
                  <a:lnTo>
                    <a:pt x="1285775" y="913720"/>
                  </a:lnTo>
                  <a:lnTo>
                    <a:pt x="1837093" y="1311006"/>
                  </a:lnTo>
                  <a:cubicBezTo>
                    <a:pt x="1898676" y="1355383"/>
                    <a:pt x="1912624" y="1441282"/>
                    <a:pt x="1868247" y="1502865"/>
                  </a:cubicBezTo>
                  <a:cubicBezTo>
                    <a:pt x="1823869" y="1564448"/>
                    <a:pt x="1737970" y="1578396"/>
                    <a:pt x="1676387" y="1534019"/>
                  </a:cubicBezTo>
                  <a:lnTo>
                    <a:pt x="1095395" y="1115349"/>
                  </a:lnTo>
                  <a:cubicBezTo>
                    <a:pt x="979830" y="1227670"/>
                    <a:pt x="821948" y="1296144"/>
                    <a:pt x="648072" y="1296144"/>
                  </a:cubicBezTo>
                  <a:cubicBezTo>
                    <a:pt x="290152" y="1296145"/>
                    <a:pt x="0" y="1005992"/>
                    <a:pt x="0" y="648072"/>
                  </a:cubicBezTo>
                  <a:cubicBezTo>
                    <a:pt x="0" y="290152"/>
                    <a:pt x="290152" y="0"/>
                    <a:pt x="64807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标题 1"/>
          <p:cNvSpPr/>
          <p:nvPr/>
        </p:nvSpPr>
        <p:spPr>
          <a:xfrm>
            <a:off x="4543560" y="252360"/>
            <a:ext cx="3916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c51b"/>
                </a:solidFill>
                <a:latin typeface="微软雅黑"/>
                <a:ea typeface="微软雅黑"/>
              </a:rPr>
              <a:t>目录</a:t>
            </a:r>
            <a:br>
              <a:rPr sz="3600"/>
            </a:br>
            <a:r>
              <a:rPr b="1" lang="en-US" sz="1600" spc="-1" strike="noStrike">
                <a:solidFill>
                  <a:srgbClr val="96c51b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1"/>
          <a:stretch/>
        </p:blipFill>
        <p:spPr>
          <a:xfrm>
            <a:off x="487440" y="1163520"/>
            <a:ext cx="1122120" cy="11098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"/>
          <p:cNvPicPr/>
          <p:nvPr/>
        </p:nvPicPr>
        <p:blipFill>
          <a:blip r:embed="rId2"/>
          <a:stretch/>
        </p:blipFill>
        <p:spPr>
          <a:xfrm>
            <a:off x="1828800" y="1163520"/>
            <a:ext cx="1152360" cy="11098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"/>
          <p:cNvPicPr/>
          <p:nvPr/>
        </p:nvPicPr>
        <p:blipFill>
          <a:blip r:embed="rId3"/>
          <a:stretch/>
        </p:blipFill>
        <p:spPr>
          <a:xfrm>
            <a:off x="3267000" y="1170000"/>
            <a:ext cx="1055880" cy="10969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"/>
          <p:cNvPicPr/>
          <p:nvPr/>
        </p:nvPicPr>
        <p:blipFill>
          <a:blip r:embed="rId4"/>
          <a:stretch/>
        </p:blipFill>
        <p:spPr>
          <a:xfrm>
            <a:off x="1170000" y="2584440"/>
            <a:ext cx="1103400" cy="10969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"/>
          <p:cNvPicPr/>
          <p:nvPr/>
        </p:nvPicPr>
        <p:blipFill>
          <a:blip r:embed="rId5"/>
          <a:stretch/>
        </p:blipFill>
        <p:spPr>
          <a:xfrm>
            <a:off x="2541600" y="2584440"/>
            <a:ext cx="11653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1" name="灯片编号占位符 1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8CA1-28DA-4186-B71A-A841F1F845C4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826920" y="1244520"/>
            <a:ext cx="1908360" cy="319320"/>
          </a:xfrm>
          <a:custGeom>
            <a:avLst/>
            <a:gdLst>
              <a:gd name="textAreaLeft" fmla="*/ 0 w 1908360"/>
              <a:gd name="textAreaRight" fmla="*/ 1908720 w 19083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7" y="0"/>
                </a:lnTo>
                <a:lnTo>
                  <a:pt x="21600" y="10800"/>
                </a:lnTo>
                <a:lnTo>
                  <a:pt x="197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2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5"/>
          <p:cNvSpPr/>
          <p:nvPr/>
        </p:nvSpPr>
        <p:spPr>
          <a:xfrm>
            <a:off x="2765520" y="1244520"/>
            <a:ext cx="5400720" cy="31932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63" y="0"/>
                </a:lnTo>
                <a:lnTo>
                  <a:pt x="21600" y="10800"/>
                </a:lnTo>
                <a:lnTo>
                  <a:pt x="20963" y="21600"/>
                </a:lnTo>
                <a:lnTo>
                  <a:pt x="0" y="21600"/>
                </a:lnTo>
                <a:lnTo>
                  <a:pt x="637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职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6"/>
          <p:cNvSpPr/>
          <p:nvPr/>
        </p:nvSpPr>
        <p:spPr>
          <a:xfrm>
            <a:off x="826920" y="1612800"/>
            <a:ext cx="1908360" cy="319320"/>
          </a:xfrm>
          <a:custGeom>
            <a:avLst/>
            <a:gdLst>
              <a:gd name="textAreaLeft" fmla="*/ 0 w 1908360"/>
              <a:gd name="textAreaRight" fmla="*/ 1908720 w 19083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7" y="0"/>
                </a:lnTo>
                <a:lnTo>
                  <a:pt x="21600" y="10800"/>
                </a:lnTo>
                <a:lnTo>
                  <a:pt x="197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2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7"/>
          <p:cNvSpPr/>
          <p:nvPr/>
        </p:nvSpPr>
        <p:spPr>
          <a:xfrm>
            <a:off x="2765520" y="1612800"/>
            <a:ext cx="5400720" cy="31932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63" y="0"/>
                </a:lnTo>
                <a:lnTo>
                  <a:pt x="21600" y="10800"/>
                </a:lnTo>
                <a:lnTo>
                  <a:pt x="20963" y="21600"/>
                </a:lnTo>
                <a:lnTo>
                  <a:pt x="0" y="21600"/>
                </a:lnTo>
                <a:lnTo>
                  <a:pt x="637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职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8"/>
          <p:cNvSpPr/>
          <p:nvPr/>
        </p:nvSpPr>
        <p:spPr>
          <a:xfrm>
            <a:off x="826920" y="1981080"/>
            <a:ext cx="1908360" cy="319320"/>
          </a:xfrm>
          <a:custGeom>
            <a:avLst/>
            <a:gdLst>
              <a:gd name="textAreaLeft" fmla="*/ 0 w 1908360"/>
              <a:gd name="textAreaRight" fmla="*/ 1908720 w 19083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7" y="0"/>
                </a:lnTo>
                <a:lnTo>
                  <a:pt x="21600" y="10800"/>
                </a:lnTo>
                <a:lnTo>
                  <a:pt x="197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2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9"/>
          <p:cNvSpPr/>
          <p:nvPr/>
        </p:nvSpPr>
        <p:spPr>
          <a:xfrm>
            <a:off x="2765520" y="1981080"/>
            <a:ext cx="5400720" cy="31932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63" y="0"/>
                </a:lnTo>
                <a:lnTo>
                  <a:pt x="21600" y="10800"/>
                </a:lnTo>
                <a:lnTo>
                  <a:pt x="20963" y="21600"/>
                </a:lnTo>
                <a:lnTo>
                  <a:pt x="0" y="21600"/>
                </a:lnTo>
                <a:lnTo>
                  <a:pt x="637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职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0"/>
          <p:cNvSpPr/>
          <p:nvPr/>
        </p:nvSpPr>
        <p:spPr>
          <a:xfrm>
            <a:off x="826920" y="2349360"/>
            <a:ext cx="1908360" cy="319320"/>
          </a:xfrm>
          <a:custGeom>
            <a:avLst/>
            <a:gdLst>
              <a:gd name="textAreaLeft" fmla="*/ 0 w 1908360"/>
              <a:gd name="textAreaRight" fmla="*/ 1908720 w 19083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7" y="0"/>
                </a:lnTo>
                <a:lnTo>
                  <a:pt x="21600" y="10800"/>
                </a:lnTo>
                <a:lnTo>
                  <a:pt x="197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2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21"/>
          <p:cNvSpPr/>
          <p:nvPr/>
        </p:nvSpPr>
        <p:spPr>
          <a:xfrm>
            <a:off x="2765520" y="2349360"/>
            <a:ext cx="5400720" cy="31932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63" y="0"/>
                </a:lnTo>
                <a:lnTo>
                  <a:pt x="21600" y="10800"/>
                </a:lnTo>
                <a:lnTo>
                  <a:pt x="20963" y="21600"/>
                </a:lnTo>
                <a:lnTo>
                  <a:pt x="0" y="21600"/>
                </a:lnTo>
                <a:lnTo>
                  <a:pt x="637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职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22"/>
          <p:cNvSpPr/>
          <p:nvPr/>
        </p:nvSpPr>
        <p:spPr>
          <a:xfrm>
            <a:off x="826920" y="2724120"/>
            <a:ext cx="1908360" cy="318960"/>
          </a:xfrm>
          <a:custGeom>
            <a:avLst/>
            <a:gdLst>
              <a:gd name="textAreaLeft" fmla="*/ 0 w 1908360"/>
              <a:gd name="textAreaRight" fmla="*/ 1908720 w 19083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7" y="0"/>
                </a:lnTo>
                <a:lnTo>
                  <a:pt x="21600" y="10800"/>
                </a:lnTo>
                <a:lnTo>
                  <a:pt x="197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2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23"/>
          <p:cNvSpPr/>
          <p:nvPr/>
        </p:nvSpPr>
        <p:spPr>
          <a:xfrm>
            <a:off x="2765520" y="2717640"/>
            <a:ext cx="5400720" cy="31932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63" y="0"/>
                </a:lnTo>
                <a:lnTo>
                  <a:pt x="21600" y="10800"/>
                </a:lnTo>
                <a:lnTo>
                  <a:pt x="20963" y="21600"/>
                </a:lnTo>
                <a:lnTo>
                  <a:pt x="0" y="21600"/>
                </a:lnTo>
                <a:lnTo>
                  <a:pt x="637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职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4"/>
          <p:cNvSpPr/>
          <p:nvPr/>
        </p:nvSpPr>
        <p:spPr>
          <a:xfrm>
            <a:off x="826920" y="3092400"/>
            <a:ext cx="1908360" cy="318960"/>
          </a:xfrm>
          <a:custGeom>
            <a:avLst/>
            <a:gdLst>
              <a:gd name="textAreaLeft" fmla="*/ 0 w 1908360"/>
              <a:gd name="textAreaRight" fmla="*/ 1908720 w 19083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7" y="0"/>
                </a:lnTo>
                <a:lnTo>
                  <a:pt x="21600" y="10800"/>
                </a:lnTo>
                <a:lnTo>
                  <a:pt x="197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2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5"/>
          <p:cNvSpPr/>
          <p:nvPr/>
        </p:nvSpPr>
        <p:spPr>
          <a:xfrm>
            <a:off x="2765520" y="3092400"/>
            <a:ext cx="5400720" cy="31896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63" y="0"/>
                </a:lnTo>
                <a:lnTo>
                  <a:pt x="21600" y="10800"/>
                </a:lnTo>
                <a:lnTo>
                  <a:pt x="20963" y="21600"/>
                </a:lnTo>
                <a:lnTo>
                  <a:pt x="0" y="21600"/>
                </a:lnTo>
                <a:lnTo>
                  <a:pt x="637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职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26"/>
          <p:cNvSpPr/>
          <p:nvPr/>
        </p:nvSpPr>
        <p:spPr>
          <a:xfrm>
            <a:off x="826920" y="3460680"/>
            <a:ext cx="1908360" cy="319320"/>
          </a:xfrm>
          <a:custGeom>
            <a:avLst/>
            <a:gdLst>
              <a:gd name="textAreaLeft" fmla="*/ 0 w 1908360"/>
              <a:gd name="textAreaRight" fmla="*/ 1908720 w 19083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7" y="0"/>
                </a:lnTo>
                <a:lnTo>
                  <a:pt x="21600" y="10800"/>
                </a:lnTo>
                <a:lnTo>
                  <a:pt x="197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2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7"/>
          <p:cNvSpPr/>
          <p:nvPr/>
        </p:nvSpPr>
        <p:spPr>
          <a:xfrm>
            <a:off x="2765520" y="3460680"/>
            <a:ext cx="5400720" cy="31932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63" y="0"/>
                </a:lnTo>
                <a:lnTo>
                  <a:pt x="21600" y="10800"/>
                </a:lnTo>
                <a:lnTo>
                  <a:pt x="20963" y="21600"/>
                </a:lnTo>
                <a:lnTo>
                  <a:pt x="0" y="21600"/>
                </a:lnTo>
                <a:lnTo>
                  <a:pt x="637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职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8"/>
          <p:cNvSpPr/>
          <p:nvPr/>
        </p:nvSpPr>
        <p:spPr>
          <a:xfrm>
            <a:off x="826920" y="3828960"/>
            <a:ext cx="1908360" cy="319320"/>
          </a:xfrm>
          <a:custGeom>
            <a:avLst/>
            <a:gdLst>
              <a:gd name="textAreaLeft" fmla="*/ 0 w 1908360"/>
              <a:gd name="textAreaRight" fmla="*/ 1908720 w 19083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7" y="0"/>
                </a:lnTo>
                <a:lnTo>
                  <a:pt x="21600" y="10800"/>
                </a:lnTo>
                <a:lnTo>
                  <a:pt x="197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2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9"/>
          <p:cNvSpPr/>
          <p:nvPr/>
        </p:nvSpPr>
        <p:spPr>
          <a:xfrm>
            <a:off x="2765520" y="3828960"/>
            <a:ext cx="5400720" cy="31932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63" y="0"/>
                </a:lnTo>
                <a:lnTo>
                  <a:pt x="21600" y="10800"/>
                </a:lnTo>
                <a:lnTo>
                  <a:pt x="20963" y="21600"/>
                </a:lnTo>
                <a:lnTo>
                  <a:pt x="0" y="21600"/>
                </a:lnTo>
                <a:lnTo>
                  <a:pt x="637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职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0"/>
          <p:cNvSpPr/>
          <p:nvPr/>
        </p:nvSpPr>
        <p:spPr>
          <a:xfrm>
            <a:off x="826920" y="4197240"/>
            <a:ext cx="1908360" cy="319320"/>
          </a:xfrm>
          <a:custGeom>
            <a:avLst/>
            <a:gdLst>
              <a:gd name="textAreaLeft" fmla="*/ 0 w 1908360"/>
              <a:gd name="textAreaRight" fmla="*/ 1908720 w 19083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7" y="0"/>
                </a:lnTo>
                <a:lnTo>
                  <a:pt x="21600" y="10800"/>
                </a:lnTo>
                <a:lnTo>
                  <a:pt x="197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2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31"/>
          <p:cNvSpPr/>
          <p:nvPr/>
        </p:nvSpPr>
        <p:spPr>
          <a:xfrm>
            <a:off x="2765520" y="4197240"/>
            <a:ext cx="5400720" cy="31932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63" y="0"/>
                </a:lnTo>
                <a:lnTo>
                  <a:pt x="21600" y="10800"/>
                </a:lnTo>
                <a:lnTo>
                  <a:pt x="20963" y="21600"/>
                </a:lnTo>
                <a:lnTo>
                  <a:pt x="0" y="21600"/>
                </a:lnTo>
                <a:lnTo>
                  <a:pt x="637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职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87280" y="336600"/>
            <a:ext cx="3598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b046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3"/>
          <p:cNvSpPr/>
          <p:nvPr/>
        </p:nvSpPr>
        <p:spPr>
          <a:xfrm>
            <a:off x="23328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4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直接连接符 2066"/>
          <p:cNvSpPr/>
          <p:nvPr/>
        </p:nvSpPr>
        <p:spPr>
          <a:xfrm>
            <a:off x="6081840" y="3147840"/>
            <a:ext cx="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直接连接符 2050"/>
          <p:cNvSpPr/>
          <p:nvPr/>
        </p:nvSpPr>
        <p:spPr>
          <a:xfrm flipV="1">
            <a:off x="853920" y="1899720"/>
            <a:ext cx="0" cy="175284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直接连接符 54"/>
          <p:cNvSpPr/>
          <p:nvPr/>
        </p:nvSpPr>
        <p:spPr>
          <a:xfrm flipV="1">
            <a:off x="2367000" y="1899720"/>
            <a:ext cx="0" cy="175284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55"/>
          <p:cNvSpPr/>
          <p:nvPr/>
        </p:nvSpPr>
        <p:spPr>
          <a:xfrm flipV="1">
            <a:off x="3995640" y="1899720"/>
            <a:ext cx="0" cy="175284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接连接符 56"/>
          <p:cNvSpPr/>
          <p:nvPr/>
        </p:nvSpPr>
        <p:spPr>
          <a:xfrm flipV="1">
            <a:off x="5448240" y="1900080"/>
            <a:ext cx="0" cy="1270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直接连接符 62"/>
          <p:cNvSpPr/>
          <p:nvPr/>
        </p:nvSpPr>
        <p:spPr>
          <a:xfrm flipV="1">
            <a:off x="8244000" y="1881360"/>
            <a:ext cx="0" cy="1584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直接连接符 65"/>
          <p:cNvSpPr/>
          <p:nvPr/>
        </p:nvSpPr>
        <p:spPr>
          <a:xfrm flipV="1">
            <a:off x="6727680" y="1900080"/>
            <a:ext cx="0" cy="1270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1" name="灯片编号占位符 1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8354-C6D9-431E-BF2B-C069BB1EBFC1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"/>
          <p:cNvSpPr/>
          <p:nvPr/>
        </p:nvSpPr>
        <p:spPr>
          <a:xfrm>
            <a:off x="136440" y="2354400"/>
            <a:ext cx="1419480" cy="669960"/>
          </a:xfrm>
          <a:prstGeom prst="roundRect">
            <a:avLst>
              <a:gd name="adj" fmla="val 16667"/>
            </a:avLst>
          </a:pr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5"/>
          <p:cNvSpPr/>
          <p:nvPr/>
        </p:nvSpPr>
        <p:spPr>
          <a:xfrm>
            <a:off x="1619280" y="2354400"/>
            <a:ext cx="1495440" cy="669960"/>
          </a:xfrm>
          <a:prstGeom prst="roundRect">
            <a:avLst>
              <a:gd name="adj" fmla="val 16667"/>
            </a:avLst>
          </a:pr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36"/>
          <p:cNvSpPr/>
          <p:nvPr/>
        </p:nvSpPr>
        <p:spPr>
          <a:xfrm>
            <a:off x="3276720" y="2328840"/>
            <a:ext cx="1438200" cy="669960"/>
          </a:xfrm>
          <a:prstGeom prst="roundRect">
            <a:avLst>
              <a:gd name="adj" fmla="val 16667"/>
            </a:avLst>
          </a:pr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37"/>
          <p:cNvSpPr/>
          <p:nvPr/>
        </p:nvSpPr>
        <p:spPr>
          <a:xfrm>
            <a:off x="4859280" y="2328840"/>
            <a:ext cx="1189080" cy="669960"/>
          </a:xfrm>
          <a:prstGeom prst="roundRect">
            <a:avLst>
              <a:gd name="adj" fmla="val 16667"/>
            </a:avLst>
          </a:pr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38"/>
          <p:cNvSpPr/>
          <p:nvPr/>
        </p:nvSpPr>
        <p:spPr>
          <a:xfrm>
            <a:off x="6119640" y="2328840"/>
            <a:ext cx="1189080" cy="669960"/>
          </a:xfrm>
          <a:prstGeom prst="roundRect">
            <a:avLst>
              <a:gd name="adj" fmla="val 16667"/>
            </a:avLst>
          </a:pr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39"/>
          <p:cNvSpPr/>
          <p:nvPr/>
        </p:nvSpPr>
        <p:spPr>
          <a:xfrm>
            <a:off x="7524720" y="2328840"/>
            <a:ext cx="1393920" cy="669960"/>
          </a:xfrm>
          <a:prstGeom prst="roundRect">
            <a:avLst>
              <a:gd name="adj" fmla="val 16667"/>
            </a:avLst>
          </a:pr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40"/>
          <p:cNvSpPr/>
          <p:nvPr/>
        </p:nvSpPr>
        <p:spPr>
          <a:xfrm>
            <a:off x="154080" y="3435480"/>
            <a:ext cx="1401840" cy="34020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功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41"/>
          <p:cNvSpPr/>
          <p:nvPr/>
        </p:nvSpPr>
        <p:spPr>
          <a:xfrm>
            <a:off x="1658880" y="3435480"/>
            <a:ext cx="1400400" cy="34020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功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42"/>
          <p:cNvSpPr/>
          <p:nvPr/>
        </p:nvSpPr>
        <p:spPr>
          <a:xfrm>
            <a:off x="3276720" y="3435480"/>
            <a:ext cx="1438200" cy="34020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功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3"/>
          <p:cNvSpPr/>
          <p:nvPr/>
        </p:nvSpPr>
        <p:spPr>
          <a:xfrm>
            <a:off x="5380200" y="3435480"/>
            <a:ext cx="1403280" cy="34020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功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5"/>
          <p:cNvSpPr/>
          <p:nvPr/>
        </p:nvSpPr>
        <p:spPr>
          <a:xfrm>
            <a:off x="7524720" y="3435480"/>
            <a:ext cx="1393920" cy="34020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部门功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直接连接符 2060"/>
          <p:cNvSpPr/>
          <p:nvPr/>
        </p:nvSpPr>
        <p:spPr>
          <a:xfrm>
            <a:off x="844560" y="1900080"/>
            <a:ext cx="7415280" cy="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2062"/>
          <p:cNvSpPr/>
          <p:nvPr/>
        </p:nvSpPr>
        <p:spPr>
          <a:xfrm flipV="1">
            <a:off x="4572000" y="1638000"/>
            <a:ext cx="0" cy="26172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2064"/>
          <p:cNvSpPr/>
          <p:nvPr/>
        </p:nvSpPr>
        <p:spPr>
          <a:xfrm>
            <a:off x="5430960" y="3157560"/>
            <a:ext cx="1296720" cy="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31"/>
          <p:cNvSpPr/>
          <p:nvPr/>
        </p:nvSpPr>
        <p:spPr>
          <a:xfrm>
            <a:off x="3862440" y="987480"/>
            <a:ext cx="1419120" cy="669960"/>
          </a:xfrm>
          <a:prstGeom prst="roundRect">
            <a:avLst>
              <a:gd name="adj" fmla="val 16667"/>
            </a:avLst>
          </a:pr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公司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1187280" y="336600"/>
            <a:ext cx="3598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b046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50"/>
          <p:cNvSpPr/>
          <p:nvPr/>
        </p:nvSpPr>
        <p:spPr>
          <a:xfrm>
            <a:off x="23328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51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圆角矩形 6"/>
          <p:cNvSpPr/>
          <p:nvPr/>
        </p:nvSpPr>
        <p:spPr>
          <a:xfrm>
            <a:off x="4640400" y="1276200"/>
            <a:ext cx="3806640" cy="567000"/>
          </a:xfrm>
          <a:prstGeom prst="roundRect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7"/>
          <p:cNvSpPr/>
          <p:nvPr/>
        </p:nvSpPr>
        <p:spPr>
          <a:xfrm>
            <a:off x="4640400" y="2165400"/>
            <a:ext cx="3806640" cy="568440"/>
          </a:xfrm>
          <a:prstGeom prst="roundRect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3" name="灯片编号占位符 3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ABA1-D8CD-47C8-B93C-83BF8296F933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4"/>
          <p:cNvSpPr/>
          <p:nvPr/>
        </p:nvSpPr>
        <p:spPr>
          <a:xfrm>
            <a:off x="592200" y="2457360"/>
            <a:ext cx="1547640" cy="579600"/>
          </a:xfrm>
          <a:prstGeom prst="roundRect">
            <a:avLst>
              <a:gd name="adj" fmla="val 50000"/>
            </a:avLst>
          </a:pr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5"/>
          <p:cNvSpPr/>
          <p:nvPr/>
        </p:nvSpPr>
        <p:spPr>
          <a:xfrm>
            <a:off x="2608200" y="1714680"/>
            <a:ext cx="1548000" cy="579240"/>
          </a:xfrm>
          <a:prstGeom prst="roundRect">
            <a:avLst>
              <a:gd name="adj" fmla="val 50000"/>
            </a:avLst>
          </a:pr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部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圆角矩形 8"/>
          <p:cNvSpPr/>
          <p:nvPr/>
        </p:nvSpPr>
        <p:spPr>
          <a:xfrm>
            <a:off x="2608200" y="3203640"/>
            <a:ext cx="1548000" cy="579240"/>
          </a:xfrm>
          <a:prstGeom prst="roundRect">
            <a:avLst>
              <a:gd name="adj" fmla="val 50000"/>
            </a:avLst>
          </a:pr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部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9"/>
          <p:cNvSpPr/>
          <p:nvPr/>
        </p:nvSpPr>
        <p:spPr>
          <a:xfrm>
            <a:off x="4640400" y="3209760"/>
            <a:ext cx="3806640" cy="567000"/>
          </a:xfrm>
          <a:prstGeom prst="roundRect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左大括号 10"/>
          <p:cNvSpPr/>
          <p:nvPr/>
        </p:nvSpPr>
        <p:spPr>
          <a:xfrm>
            <a:off x="2284560" y="1870200"/>
            <a:ext cx="188640" cy="1755720"/>
          </a:xfrm>
          <a:custGeom>
            <a:avLst/>
            <a:gdLst>
              <a:gd name="textAreaLeft" fmla="*/ 120600 w 188640"/>
              <a:gd name="textAreaRight" fmla="*/ 189000 w 188640"/>
              <a:gd name="textAreaTop" fmla="*/ 55800 h 1755720"/>
              <a:gd name="textAreaBottom" fmla="*/ 1699920 h 175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3"/>
                  <a:pt x="10800" y="2206"/>
                </a:cubicBezTo>
                <a:lnTo>
                  <a:pt x="10800" y="8594"/>
                </a:lnTo>
                <a:cubicBezTo>
                  <a:pt x="10800" y="9697"/>
                  <a:pt x="5400" y="10800"/>
                  <a:pt x="0" y="10800"/>
                </a:cubicBezTo>
                <a:cubicBezTo>
                  <a:pt x="5400" y="10800"/>
                  <a:pt x="10800" y="11903"/>
                  <a:pt x="10800" y="13006"/>
                </a:cubicBezTo>
                <a:lnTo>
                  <a:pt x="10800" y="19394"/>
                </a:lnTo>
                <a:cubicBezTo>
                  <a:pt x="10800" y="2049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3000" rIns="423000" tIns="2160" bIns="2160" anchor="ctr">
            <a:noAutofit/>
          </a:bodyPr>
          <a:p>
            <a:pPr algn="ctr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295200"/>
                <a:tab algn="l" pos="590400"/>
                <a:tab algn="l" pos="885960"/>
                <a:tab algn="l" pos="1181160"/>
                <a:tab algn="l" pos="1476360"/>
                <a:tab algn="l" pos="1771560"/>
                <a:tab algn="l" pos="2066760"/>
                <a:tab algn="l" pos="2362320"/>
                <a:tab algn="l" pos="2657520"/>
                <a:tab algn="l" pos="2952720"/>
                <a:tab algn="l" pos="3247920"/>
                <a:tab algn="l" pos="354348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左大括号 11"/>
          <p:cNvSpPr/>
          <p:nvPr/>
        </p:nvSpPr>
        <p:spPr>
          <a:xfrm>
            <a:off x="4367160" y="1433520"/>
            <a:ext cx="152280" cy="1258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080 h 1258920"/>
              <a:gd name="textAreaBottom" fmla="*/ 122184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8"/>
                  <a:pt x="10800" y="2036"/>
                </a:cubicBezTo>
                <a:lnTo>
                  <a:pt x="10800" y="8764"/>
                </a:lnTo>
                <a:cubicBezTo>
                  <a:pt x="10800" y="9782"/>
                  <a:pt x="5400" y="10800"/>
                  <a:pt x="0" y="10800"/>
                </a:cubicBezTo>
                <a:cubicBezTo>
                  <a:pt x="5400" y="10800"/>
                  <a:pt x="10800" y="11818"/>
                  <a:pt x="10800" y="12836"/>
                </a:cubicBezTo>
                <a:lnTo>
                  <a:pt x="10800" y="19564"/>
                </a:lnTo>
                <a:cubicBezTo>
                  <a:pt x="10800" y="2058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3000" rIns="423000" tIns="2160" bIns="2160" anchor="ctr">
            <a:noAutofit/>
          </a:bodyPr>
          <a:p>
            <a:pPr algn="ctr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295200"/>
                <a:tab algn="l" pos="590400"/>
                <a:tab algn="l" pos="885960"/>
                <a:tab algn="l" pos="1181160"/>
                <a:tab algn="l" pos="1476360"/>
                <a:tab algn="l" pos="1771560"/>
                <a:tab algn="l" pos="2066760"/>
                <a:tab algn="l" pos="2362320"/>
                <a:tab algn="l" pos="2657520"/>
                <a:tab algn="l" pos="2952720"/>
                <a:tab algn="l" pos="3247920"/>
                <a:tab algn="l" pos="354348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2"/>
          <p:cNvSpPr/>
          <p:nvPr/>
        </p:nvSpPr>
        <p:spPr>
          <a:xfrm>
            <a:off x="5154480" y="136836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分部门职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3"/>
          <p:cNvSpPr/>
          <p:nvPr/>
        </p:nvSpPr>
        <p:spPr>
          <a:xfrm>
            <a:off x="5154480" y="2259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分部门职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4"/>
          <p:cNvSpPr/>
          <p:nvPr/>
        </p:nvSpPr>
        <p:spPr>
          <a:xfrm>
            <a:off x="5154480" y="33037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分部门职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1187280" y="336600"/>
            <a:ext cx="3598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b046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23328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8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7" name="灯片编号占位符 3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1F61-9E83-412D-8716-1DD59AC365EA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87280" y="336600"/>
            <a:ext cx="3598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b046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7"/>
          <p:cNvSpPr/>
          <p:nvPr/>
        </p:nvSpPr>
        <p:spPr>
          <a:xfrm>
            <a:off x="23328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8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19"/>
          <p:cNvSpPr/>
          <p:nvPr/>
        </p:nvSpPr>
        <p:spPr>
          <a:xfrm>
            <a:off x="5216400" y="1698480"/>
            <a:ext cx="1657440" cy="85104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2346960" h="1203960">
                <a:moveTo>
                  <a:pt x="0" y="609600"/>
                </a:moveTo>
                <a:lnTo>
                  <a:pt x="0" y="0"/>
                </a:lnTo>
                <a:lnTo>
                  <a:pt x="2346960" y="0"/>
                </a:lnTo>
                <a:lnTo>
                  <a:pt x="2346960" y="120396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任意多边形 20"/>
          <p:cNvSpPr/>
          <p:nvPr/>
        </p:nvSpPr>
        <p:spPr>
          <a:xfrm>
            <a:off x="6002280" y="1473120"/>
            <a:ext cx="1959120" cy="103356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1033560"/>
              <a:gd name="textAreaBottom" fmla="*/ 1033560 h 1033560"/>
            </a:gdLst>
            <a:ahLst/>
            <a:rect l="textAreaLeft" t="textAreaTop" r="textAreaRight" b="textAreaBottom"/>
            <a:pathLst>
              <a:path w="2773680" h="1463040">
                <a:moveTo>
                  <a:pt x="0" y="304800"/>
                </a:moveTo>
                <a:lnTo>
                  <a:pt x="0" y="0"/>
                </a:lnTo>
                <a:lnTo>
                  <a:pt x="2773680" y="0"/>
                </a:lnTo>
                <a:lnTo>
                  <a:pt x="2773680" y="146304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任意多边形 21"/>
          <p:cNvSpPr/>
          <p:nvPr/>
        </p:nvSpPr>
        <p:spPr>
          <a:xfrm>
            <a:off x="5227560" y="3281400"/>
            <a:ext cx="871560" cy="689040"/>
          </a:xfrm>
          <a:custGeom>
            <a:avLst/>
            <a:gdLst>
              <a:gd name="textAreaLeft" fmla="*/ 0 w 871560"/>
              <a:gd name="textAreaRight" fmla="*/ 871920 w 871560"/>
              <a:gd name="textAreaTop" fmla="*/ 0 h 689040"/>
              <a:gd name="textAreaBottom" fmla="*/ 689040 h 689040"/>
            </a:gdLst>
            <a:ahLst/>
            <a:rect l="textAreaLeft" t="textAreaTop" r="textAreaRight" b="textAreaBottom"/>
            <a:pathLst>
              <a:path w="1234440" h="975360">
                <a:moveTo>
                  <a:pt x="0" y="609600"/>
                </a:moveTo>
                <a:lnTo>
                  <a:pt x="0" y="975360"/>
                </a:lnTo>
                <a:lnTo>
                  <a:pt x="1234440" y="975360"/>
                </a:lnTo>
                <a:lnTo>
                  <a:pt x="1234440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任意多边形 22"/>
          <p:cNvSpPr/>
          <p:nvPr/>
        </p:nvSpPr>
        <p:spPr>
          <a:xfrm>
            <a:off x="5680080" y="3970440"/>
            <a:ext cx="2398680" cy="247680"/>
          </a:xfrm>
          <a:custGeom>
            <a:avLst/>
            <a:gdLst>
              <a:gd name="textAreaLeft" fmla="*/ 0 w 2398680"/>
              <a:gd name="textAreaRight" fmla="*/ 2398680 w 23986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398520" h="350520">
                <a:moveTo>
                  <a:pt x="0" y="15240"/>
                </a:moveTo>
                <a:lnTo>
                  <a:pt x="0" y="350520"/>
                </a:lnTo>
                <a:lnTo>
                  <a:pt x="3398520" y="350520"/>
                </a:lnTo>
                <a:lnTo>
                  <a:pt x="3368040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2"/>
          <p:cNvSpPr/>
          <p:nvPr/>
        </p:nvSpPr>
        <p:spPr>
          <a:xfrm>
            <a:off x="6110280" y="1203480"/>
            <a:ext cx="17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组合 24" descr=""/>
          <p:cNvPicPr/>
          <p:nvPr/>
        </p:nvPicPr>
        <p:blipFill>
          <a:blip r:embed="rId1"/>
          <a:stretch/>
        </p:blipFill>
        <p:spPr>
          <a:xfrm>
            <a:off x="3822840" y="2036880"/>
            <a:ext cx="4851360" cy="2309760"/>
          </a:xfrm>
          <a:prstGeom prst="rect">
            <a:avLst/>
          </a:prstGeom>
          <a:ln w="0">
            <a:noFill/>
          </a:ln>
        </p:spPr>
      </p:pic>
      <p:sp>
        <p:nvSpPr>
          <p:cNvPr id="567" name="椭圆 109"/>
          <p:cNvSpPr/>
          <p:nvPr/>
        </p:nvSpPr>
        <p:spPr>
          <a:xfrm>
            <a:off x="6249960" y="1909800"/>
            <a:ext cx="1257480" cy="1258920"/>
          </a:xfrm>
          <a:prstGeom prst="ellipse">
            <a:avLst/>
          </a:pr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五角星 110"/>
          <p:cNvSpPr/>
          <p:nvPr/>
        </p:nvSpPr>
        <p:spPr>
          <a:xfrm>
            <a:off x="6626160" y="2287440"/>
            <a:ext cx="504720" cy="5032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4214" h="504214">
                <a:moveTo>
                  <a:pt x="1" y="192592"/>
                </a:moveTo>
                <a:lnTo>
                  <a:pt x="192594" y="192593"/>
                </a:lnTo>
                <a:lnTo>
                  <a:pt x="252107" y="0"/>
                </a:lnTo>
                <a:lnTo>
                  <a:pt x="311620" y="192593"/>
                </a:lnTo>
                <a:lnTo>
                  <a:pt x="504213" y="192592"/>
                </a:lnTo>
                <a:lnTo>
                  <a:pt x="348402" y="311620"/>
                </a:lnTo>
                <a:lnTo>
                  <a:pt x="407917" y="504213"/>
                </a:lnTo>
                <a:lnTo>
                  <a:pt x="252107" y="385183"/>
                </a:lnTo>
                <a:lnTo>
                  <a:pt x="96297" y="504213"/>
                </a:lnTo>
                <a:lnTo>
                  <a:pt x="155812" y="311620"/>
                </a:lnTo>
                <a:lnTo>
                  <a:pt x="1" y="1925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椭圆 111"/>
          <p:cNvSpPr/>
          <p:nvPr/>
        </p:nvSpPr>
        <p:spPr>
          <a:xfrm>
            <a:off x="7693200" y="2209680"/>
            <a:ext cx="545760" cy="546120"/>
          </a:xfrm>
          <a:prstGeom prst="ellipse">
            <a:avLst/>
          </a:pr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五角星 112"/>
          <p:cNvSpPr/>
          <p:nvPr/>
        </p:nvSpPr>
        <p:spPr>
          <a:xfrm>
            <a:off x="7826400" y="2343240"/>
            <a:ext cx="280800" cy="279360"/>
          </a:xfrm>
          <a:custGeom>
            <a:avLst/>
            <a:gdLst>
              <a:gd name="textAreaLeft" fmla="*/ 0 w 280800"/>
              <a:gd name="textAreaRight" fmla="*/ 281160 w 28080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80882" h="280882">
                <a:moveTo>
                  <a:pt x="0" y="107287"/>
                </a:moveTo>
                <a:lnTo>
                  <a:pt x="107288" y="107288"/>
                </a:lnTo>
                <a:lnTo>
                  <a:pt x="140441" y="0"/>
                </a:lnTo>
                <a:lnTo>
                  <a:pt x="173594" y="107288"/>
                </a:lnTo>
                <a:lnTo>
                  <a:pt x="280882" y="107287"/>
                </a:lnTo>
                <a:lnTo>
                  <a:pt x="194084" y="173594"/>
                </a:lnTo>
                <a:lnTo>
                  <a:pt x="227238" y="280881"/>
                </a:lnTo>
                <a:lnTo>
                  <a:pt x="140441" y="214573"/>
                </a:lnTo>
                <a:lnTo>
                  <a:pt x="53644" y="280881"/>
                </a:lnTo>
                <a:lnTo>
                  <a:pt x="86798" y="173594"/>
                </a:lnTo>
                <a:lnTo>
                  <a:pt x="0" y="1072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椭圆 113"/>
          <p:cNvSpPr/>
          <p:nvPr/>
        </p:nvSpPr>
        <p:spPr>
          <a:xfrm>
            <a:off x="4908600" y="1822320"/>
            <a:ext cx="636480" cy="636840"/>
          </a:xfrm>
          <a:prstGeom prst="ellipse">
            <a:avLst/>
          </a:pr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五角星 114"/>
          <p:cNvSpPr/>
          <p:nvPr/>
        </p:nvSpPr>
        <p:spPr>
          <a:xfrm>
            <a:off x="5062680" y="1976400"/>
            <a:ext cx="328320" cy="328680"/>
          </a:xfrm>
          <a:custGeom>
            <a:avLst/>
            <a:gdLst>
              <a:gd name="textAreaLeft" fmla="*/ 0 w 328320"/>
              <a:gd name="textAreaRight" fmla="*/ 328680 w 3283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327360" h="327360">
                <a:moveTo>
                  <a:pt x="0" y="125040"/>
                </a:moveTo>
                <a:lnTo>
                  <a:pt x="125041" y="125041"/>
                </a:lnTo>
                <a:lnTo>
                  <a:pt x="163680" y="0"/>
                </a:lnTo>
                <a:lnTo>
                  <a:pt x="202319" y="125041"/>
                </a:lnTo>
                <a:lnTo>
                  <a:pt x="327360" y="125040"/>
                </a:lnTo>
                <a:lnTo>
                  <a:pt x="226199" y="202319"/>
                </a:lnTo>
                <a:lnTo>
                  <a:pt x="264840" y="327359"/>
                </a:lnTo>
                <a:lnTo>
                  <a:pt x="163680" y="250079"/>
                </a:lnTo>
                <a:lnTo>
                  <a:pt x="62520" y="327359"/>
                </a:lnTo>
                <a:lnTo>
                  <a:pt x="101161" y="202319"/>
                </a:lnTo>
                <a:lnTo>
                  <a:pt x="0" y="1250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椭圆 115"/>
          <p:cNvSpPr/>
          <p:nvPr/>
        </p:nvSpPr>
        <p:spPr>
          <a:xfrm>
            <a:off x="5046840" y="3516480"/>
            <a:ext cx="363240" cy="363240"/>
          </a:xfrm>
          <a:prstGeom prst="ellipse">
            <a:avLst/>
          </a:pr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16"/>
          <p:cNvSpPr/>
          <p:nvPr/>
        </p:nvSpPr>
        <p:spPr>
          <a:xfrm>
            <a:off x="5130720" y="3598920"/>
            <a:ext cx="196920" cy="19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17"/>
          <p:cNvSpPr/>
          <p:nvPr/>
        </p:nvSpPr>
        <p:spPr>
          <a:xfrm>
            <a:off x="7934400" y="3843360"/>
            <a:ext cx="253800" cy="252360"/>
          </a:xfrm>
          <a:prstGeom prst="ellipse">
            <a:avLst/>
          </a:pr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118"/>
          <p:cNvSpPr/>
          <p:nvPr/>
        </p:nvSpPr>
        <p:spPr>
          <a:xfrm>
            <a:off x="7993080" y="3913200"/>
            <a:ext cx="13644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119"/>
          <p:cNvSpPr/>
          <p:nvPr/>
        </p:nvSpPr>
        <p:spPr>
          <a:xfrm>
            <a:off x="5938920" y="3135240"/>
            <a:ext cx="296640" cy="298440"/>
          </a:xfrm>
          <a:prstGeom prst="ellipse">
            <a:avLst/>
          </a:pr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120"/>
          <p:cNvSpPr/>
          <p:nvPr/>
        </p:nvSpPr>
        <p:spPr>
          <a:xfrm>
            <a:off x="5997600" y="319392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26"/>
          <p:cNvSpPr/>
          <p:nvPr/>
        </p:nvSpPr>
        <p:spPr>
          <a:xfrm>
            <a:off x="6165720" y="4248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29"/>
          <p:cNvSpPr/>
          <p:nvPr/>
        </p:nvSpPr>
        <p:spPr>
          <a:xfrm>
            <a:off x="687240" y="1355760"/>
            <a:ext cx="16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9b046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23"/>
          <p:cNvSpPr/>
          <p:nvPr/>
        </p:nvSpPr>
        <p:spPr>
          <a:xfrm>
            <a:off x="685800" y="1609560"/>
            <a:ext cx="32385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33"/>
          <p:cNvSpPr/>
          <p:nvPr/>
        </p:nvSpPr>
        <p:spPr>
          <a:xfrm>
            <a:off x="709560" y="2881440"/>
            <a:ext cx="16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9b046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25"/>
          <p:cNvSpPr/>
          <p:nvPr/>
        </p:nvSpPr>
        <p:spPr>
          <a:xfrm>
            <a:off x="709560" y="3146400"/>
            <a:ext cx="32371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53"/>
          <p:cNvSpPr/>
          <p:nvPr/>
        </p:nvSpPr>
        <p:spPr>
          <a:xfrm>
            <a:off x="5607000" y="1249200"/>
            <a:ext cx="2997360" cy="687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53"/>
          <p:cNvSpPr/>
          <p:nvPr/>
        </p:nvSpPr>
        <p:spPr>
          <a:xfrm>
            <a:off x="5607000" y="2050920"/>
            <a:ext cx="2997360" cy="687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53"/>
          <p:cNvSpPr/>
          <p:nvPr/>
        </p:nvSpPr>
        <p:spPr>
          <a:xfrm>
            <a:off x="5607000" y="2854440"/>
            <a:ext cx="2997360" cy="687240"/>
          </a:xfrm>
          <a:prstGeom prst="rect">
            <a:avLst/>
          </a:pr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53"/>
          <p:cNvSpPr/>
          <p:nvPr/>
        </p:nvSpPr>
        <p:spPr>
          <a:xfrm>
            <a:off x="5607000" y="3656160"/>
            <a:ext cx="2997360" cy="687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灯片编号占位符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DDC2-765D-45C6-9C4A-6C6EB4F3BEFB}" type="slidenum"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35"/>
          <p:cNvSpPr/>
          <p:nvPr/>
        </p:nvSpPr>
        <p:spPr>
          <a:xfrm>
            <a:off x="1403280" y="4395960"/>
            <a:ext cx="173988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36"/>
          <p:cNvSpPr/>
          <p:nvPr/>
        </p:nvSpPr>
        <p:spPr>
          <a:xfrm>
            <a:off x="1767960" y="44067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公司网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25"/>
          <p:cNvGrpSpPr/>
          <p:nvPr/>
        </p:nvGrpSpPr>
        <p:grpSpPr>
          <a:xfrm>
            <a:off x="3197160" y="4386240"/>
            <a:ext cx="346320" cy="345960"/>
            <a:chOff x="3197160" y="4386240"/>
            <a:chExt cx="346320" cy="345960"/>
          </a:xfrm>
        </p:grpSpPr>
        <p:sp>
          <p:nvSpPr>
            <p:cNvPr id="592" name="圆角矩形 26"/>
            <p:cNvSpPr/>
            <p:nvPr/>
          </p:nvSpPr>
          <p:spPr>
            <a:xfrm>
              <a:off x="3197160" y="4386240"/>
              <a:ext cx="346320" cy="345960"/>
            </a:xfrm>
            <a:prstGeom prst="roundRect">
              <a:avLst>
                <a:gd name="adj" fmla="val 16667"/>
              </a:avLst>
            </a:prstGeom>
            <a:solidFill>
              <a:srgbClr val="91b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矩形 5"/>
            <p:cNvSpPr/>
            <p:nvPr/>
          </p:nvSpPr>
          <p:spPr>
            <a:xfrm>
              <a:off x="3236760" y="4449600"/>
              <a:ext cx="266760" cy="219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894192" h="1559964">
                  <a:moveTo>
                    <a:pt x="648072" y="196871"/>
                  </a:moveTo>
                  <a:cubicBezTo>
                    <a:pt x="398881" y="196871"/>
                    <a:pt x="196871" y="398881"/>
                    <a:pt x="196871" y="648072"/>
                  </a:cubicBezTo>
                  <a:cubicBezTo>
                    <a:pt x="196871" y="897263"/>
                    <a:pt x="398881" y="1099274"/>
                    <a:pt x="648072" y="1099273"/>
                  </a:cubicBezTo>
                  <a:cubicBezTo>
                    <a:pt x="897264" y="1099273"/>
                    <a:pt x="1099274" y="897263"/>
                    <a:pt x="1099273" y="648072"/>
                  </a:cubicBezTo>
                  <a:cubicBezTo>
                    <a:pt x="1099273" y="398881"/>
                    <a:pt x="897263" y="196871"/>
                    <a:pt x="648072" y="196871"/>
                  </a:cubicBezTo>
                  <a:close/>
                  <a:moveTo>
                    <a:pt x="648072" y="0"/>
                  </a:moveTo>
                  <a:cubicBezTo>
                    <a:pt x="1005992" y="0"/>
                    <a:pt x="1296144" y="290152"/>
                    <a:pt x="1296144" y="648072"/>
                  </a:cubicBezTo>
                  <a:cubicBezTo>
                    <a:pt x="1296144" y="732769"/>
                    <a:pt x="1279897" y="813671"/>
                    <a:pt x="1249233" y="887388"/>
                  </a:cubicBezTo>
                  <a:lnTo>
                    <a:pt x="1276129" y="906769"/>
                  </a:lnTo>
                  <a:lnTo>
                    <a:pt x="1285775" y="906769"/>
                  </a:lnTo>
                  <a:lnTo>
                    <a:pt x="1285775" y="913720"/>
                  </a:lnTo>
                  <a:lnTo>
                    <a:pt x="1837093" y="1311006"/>
                  </a:lnTo>
                  <a:cubicBezTo>
                    <a:pt x="1898676" y="1355383"/>
                    <a:pt x="1912624" y="1441282"/>
                    <a:pt x="1868247" y="1502865"/>
                  </a:cubicBezTo>
                  <a:cubicBezTo>
                    <a:pt x="1823869" y="1564448"/>
                    <a:pt x="1737970" y="1578396"/>
                    <a:pt x="1676387" y="1534019"/>
                  </a:cubicBezTo>
                  <a:lnTo>
                    <a:pt x="1095395" y="1115349"/>
                  </a:lnTo>
                  <a:cubicBezTo>
                    <a:pt x="979830" y="1227670"/>
                    <a:pt x="821948" y="1296144"/>
                    <a:pt x="648072" y="1296144"/>
                  </a:cubicBezTo>
                  <a:cubicBezTo>
                    <a:pt x="290152" y="1296145"/>
                    <a:pt x="0" y="1005992"/>
                    <a:pt x="0" y="648072"/>
                  </a:cubicBezTo>
                  <a:cubicBezTo>
                    <a:pt x="0" y="290152"/>
                    <a:pt x="290152" y="0"/>
                    <a:pt x="64807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标题 1"/>
          <p:cNvSpPr/>
          <p:nvPr/>
        </p:nvSpPr>
        <p:spPr>
          <a:xfrm>
            <a:off x="4543560" y="252360"/>
            <a:ext cx="3916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c51b"/>
                </a:solidFill>
                <a:latin typeface="微软雅黑"/>
                <a:ea typeface="微软雅黑"/>
              </a:rPr>
              <a:t>目录</a:t>
            </a:r>
            <a:br>
              <a:rPr sz="3600"/>
            </a:br>
            <a:r>
              <a:rPr b="1" lang="en-US" sz="1600" spc="-1" strike="noStrike">
                <a:solidFill>
                  <a:srgbClr val="96c51b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1"/>
          <a:stretch/>
        </p:blipFill>
        <p:spPr>
          <a:xfrm>
            <a:off x="487440" y="1163520"/>
            <a:ext cx="1122120" cy="11098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"/>
          <p:cNvPicPr/>
          <p:nvPr/>
        </p:nvPicPr>
        <p:blipFill>
          <a:blip r:embed="rId2"/>
          <a:stretch/>
        </p:blipFill>
        <p:spPr>
          <a:xfrm>
            <a:off x="1828800" y="1163520"/>
            <a:ext cx="1152360" cy="11098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6" descr=""/>
          <p:cNvPicPr/>
          <p:nvPr/>
        </p:nvPicPr>
        <p:blipFill>
          <a:blip r:embed="rId3"/>
          <a:stretch/>
        </p:blipFill>
        <p:spPr>
          <a:xfrm>
            <a:off x="3267000" y="1170000"/>
            <a:ext cx="1055880" cy="10969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8" descr=""/>
          <p:cNvPicPr/>
          <p:nvPr/>
        </p:nvPicPr>
        <p:blipFill>
          <a:blip r:embed="rId4"/>
          <a:stretch/>
        </p:blipFill>
        <p:spPr>
          <a:xfrm>
            <a:off x="1170000" y="2584440"/>
            <a:ext cx="1103400" cy="10969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9" descr=""/>
          <p:cNvPicPr/>
          <p:nvPr/>
        </p:nvPicPr>
        <p:blipFill>
          <a:blip r:embed="rId5"/>
          <a:stretch/>
        </p:blipFill>
        <p:spPr>
          <a:xfrm>
            <a:off x="2541600" y="2584440"/>
            <a:ext cx="11653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1" name="灯片编号占位符 3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8115-5598-4B69-883E-124EE83BC395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9"/>
          <p:cNvSpPr/>
          <p:nvPr/>
        </p:nvSpPr>
        <p:spPr>
          <a:xfrm>
            <a:off x="1924200" y="1273320"/>
            <a:ext cx="59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当年公司发展情况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当年公司发展情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"/>
          <p:cNvSpPr/>
          <p:nvPr/>
        </p:nvSpPr>
        <p:spPr>
          <a:xfrm>
            <a:off x="817560" y="1281240"/>
            <a:ext cx="1128600" cy="27756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51" y="0"/>
                </a:lnTo>
                <a:lnTo>
                  <a:pt x="21600" y="10800"/>
                </a:lnTo>
                <a:lnTo>
                  <a:pt x="18951" y="21600"/>
                </a:lnTo>
                <a:lnTo>
                  <a:pt x="0" y="21600"/>
                </a:lnTo>
                <a:lnTo>
                  <a:pt x="2649" y="10800"/>
                </a:lnTo>
                <a:close/>
              </a:path>
            </a:pathLst>
          </a:cu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2"/>
          <p:cNvSpPr/>
          <p:nvPr/>
        </p:nvSpPr>
        <p:spPr>
          <a:xfrm>
            <a:off x="2762640" y="1706400"/>
            <a:ext cx="289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当年公司发展情况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当年公司发展情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817560" y="1714680"/>
            <a:ext cx="1128600" cy="27756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51" y="0"/>
                </a:lnTo>
                <a:lnTo>
                  <a:pt x="21600" y="10800"/>
                </a:lnTo>
                <a:lnTo>
                  <a:pt x="18951" y="21600"/>
                </a:lnTo>
                <a:lnTo>
                  <a:pt x="0" y="21600"/>
                </a:lnTo>
                <a:lnTo>
                  <a:pt x="2649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5"/>
          <p:cNvSpPr/>
          <p:nvPr/>
        </p:nvSpPr>
        <p:spPr>
          <a:xfrm>
            <a:off x="2762640" y="2139840"/>
            <a:ext cx="289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当年公司发展情况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当年公司发展情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6"/>
          <p:cNvSpPr/>
          <p:nvPr/>
        </p:nvSpPr>
        <p:spPr>
          <a:xfrm>
            <a:off x="817560" y="2147760"/>
            <a:ext cx="1128600" cy="27648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51" y="0"/>
                </a:lnTo>
                <a:lnTo>
                  <a:pt x="21600" y="10800"/>
                </a:lnTo>
                <a:lnTo>
                  <a:pt x="18951" y="21600"/>
                </a:lnTo>
                <a:lnTo>
                  <a:pt x="0" y="21600"/>
                </a:lnTo>
                <a:lnTo>
                  <a:pt x="2649" y="10800"/>
                </a:lnTo>
                <a:close/>
              </a:path>
            </a:pathLst>
          </a:cu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7"/>
          <p:cNvSpPr/>
          <p:nvPr/>
        </p:nvSpPr>
        <p:spPr>
          <a:xfrm>
            <a:off x="2762640" y="2573280"/>
            <a:ext cx="289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当年公司发展情况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当年公司发展情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8"/>
          <p:cNvSpPr/>
          <p:nvPr/>
        </p:nvSpPr>
        <p:spPr>
          <a:xfrm>
            <a:off x="817560" y="2579760"/>
            <a:ext cx="1128600" cy="27792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277920"/>
              <a:gd name="textAreaBottom" fmla="*/ 2779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51" y="0"/>
                </a:lnTo>
                <a:lnTo>
                  <a:pt x="21600" y="10800"/>
                </a:lnTo>
                <a:lnTo>
                  <a:pt x="18951" y="21600"/>
                </a:lnTo>
                <a:lnTo>
                  <a:pt x="0" y="21600"/>
                </a:lnTo>
                <a:lnTo>
                  <a:pt x="2649" y="10800"/>
                </a:lnTo>
                <a:close/>
              </a:path>
            </a:pathLst>
          </a:cu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9"/>
          <p:cNvSpPr/>
          <p:nvPr/>
        </p:nvSpPr>
        <p:spPr>
          <a:xfrm>
            <a:off x="2762640" y="3006720"/>
            <a:ext cx="289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当年公司发展情况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当年公司发展情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0"/>
          <p:cNvSpPr/>
          <p:nvPr/>
        </p:nvSpPr>
        <p:spPr>
          <a:xfrm>
            <a:off x="817560" y="3013200"/>
            <a:ext cx="1128600" cy="27612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51" y="0"/>
                </a:lnTo>
                <a:lnTo>
                  <a:pt x="21600" y="10800"/>
                </a:lnTo>
                <a:lnTo>
                  <a:pt x="18951" y="21600"/>
                </a:lnTo>
                <a:lnTo>
                  <a:pt x="0" y="21600"/>
                </a:lnTo>
                <a:lnTo>
                  <a:pt x="2649" y="10800"/>
                </a:lnTo>
                <a:close/>
              </a:path>
            </a:pathLst>
          </a:cu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22"/>
          <p:cNvSpPr/>
          <p:nvPr/>
        </p:nvSpPr>
        <p:spPr>
          <a:xfrm>
            <a:off x="2762640" y="3440160"/>
            <a:ext cx="289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当年公司发展情况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当年公司发展情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23"/>
          <p:cNvSpPr/>
          <p:nvPr/>
        </p:nvSpPr>
        <p:spPr>
          <a:xfrm>
            <a:off x="817560" y="3444840"/>
            <a:ext cx="1128600" cy="27792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277920"/>
              <a:gd name="textAreaBottom" fmla="*/ 2779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51" y="0"/>
                </a:lnTo>
                <a:lnTo>
                  <a:pt x="21600" y="10800"/>
                </a:lnTo>
                <a:lnTo>
                  <a:pt x="18951" y="21600"/>
                </a:lnTo>
                <a:lnTo>
                  <a:pt x="0" y="21600"/>
                </a:lnTo>
                <a:lnTo>
                  <a:pt x="2649" y="10800"/>
                </a:lnTo>
                <a:close/>
              </a:path>
            </a:pathLst>
          </a:cu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6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25"/>
          <p:cNvSpPr/>
          <p:nvPr/>
        </p:nvSpPr>
        <p:spPr>
          <a:xfrm>
            <a:off x="2814480" y="3873600"/>
            <a:ext cx="289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当年公司发展情况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当年公司发展情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26"/>
          <p:cNvSpPr/>
          <p:nvPr/>
        </p:nvSpPr>
        <p:spPr>
          <a:xfrm>
            <a:off x="817560" y="3878280"/>
            <a:ext cx="1128600" cy="27612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51" y="0"/>
                </a:lnTo>
                <a:lnTo>
                  <a:pt x="21600" y="10800"/>
                </a:lnTo>
                <a:lnTo>
                  <a:pt x="18951" y="21600"/>
                </a:lnTo>
                <a:lnTo>
                  <a:pt x="0" y="21600"/>
                </a:lnTo>
                <a:lnTo>
                  <a:pt x="2649" y="10800"/>
                </a:lnTo>
                <a:close/>
              </a:path>
            </a:pathLst>
          </a:cu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7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27"/>
          <p:cNvSpPr/>
          <p:nvPr/>
        </p:nvSpPr>
        <p:spPr>
          <a:xfrm>
            <a:off x="2762640" y="4307040"/>
            <a:ext cx="289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当年公司发展情况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当年公司发展情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28"/>
          <p:cNvSpPr/>
          <p:nvPr/>
        </p:nvSpPr>
        <p:spPr>
          <a:xfrm>
            <a:off x="817560" y="4311720"/>
            <a:ext cx="1128600" cy="27612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51" y="0"/>
                </a:lnTo>
                <a:lnTo>
                  <a:pt x="21600" y="10800"/>
                </a:lnTo>
                <a:lnTo>
                  <a:pt x="18951" y="21600"/>
                </a:lnTo>
                <a:lnTo>
                  <a:pt x="0" y="21600"/>
                </a:lnTo>
                <a:lnTo>
                  <a:pt x="2649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8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0"/>
          <p:cNvSpPr/>
          <p:nvPr/>
        </p:nvSpPr>
        <p:spPr>
          <a:xfrm>
            <a:off x="595440" y="1058760"/>
            <a:ext cx="87120" cy="4084920"/>
          </a:xfrm>
          <a:prstGeom prst="rect">
            <a:avLst/>
          </a:pr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椭圆 14"/>
          <p:cNvSpPr/>
          <p:nvPr/>
        </p:nvSpPr>
        <p:spPr>
          <a:xfrm>
            <a:off x="519120" y="1298520"/>
            <a:ext cx="235080" cy="235080"/>
          </a:xfrm>
          <a:prstGeom prst="ellipse">
            <a:avLst/>
          </a:prstGeom>
          <a:solidFill>
            <a:srgbClr val="679cd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椭圆 31"/>
          <p:cNvSpPr/>
          <p:nvPr/>
        </p:nvSpPr>
        <p:spPr>
          <a:xfrm>
            <a:off x="519120" y="1731960"/>
            <a:ext cx="235080" cy="2332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椭圆 32"/>
          <p:cNvSpPr/>
          <p:nvPr/>
        </p:nvSpPr>
        <p:spPr>
          <a:xfrm>
            <a:off x="519120" y="2163600"/>
            <a:ext cx="235080" cy="235080"/>
          </a:xfrm>
          <a:prstGeom prst="ellipse">
            <a:avLst/>
          </a:prstGeom>
          <a:solidFill>
            <a:srgbClr val="679cd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椭圆 33"/>
          <p:cNvSpPr/>
          <p:nvPr/>
        </p:nvSpPr>
        <p:spPr>
          <a:xfrm>
            <a:off x="519120" y="2597040"/>
            <a:ext cx="235080" cy="235080"/>
          </a:xfrm>
          <a:prstGeom prst="ellipse">
            <a:avLst/>
          </a:prstGeom>
          <a:solidFill>
            <a:srgbClr val="96c51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椭圆 34"/>
          <p:cNvSpPr/>
          <p:nvPr/>
        </p:nvSpPr>
        <p:spPr>
          <a:xfrm>
            <a:off x="519120" y="3030480"/>
            <a:ext cx="235080" cy="233280"/>
          </a:xfrm>
          <a:prstGeom prst="ellipse">
            <a:avLst/>
          </a:prstGeom>
          <a:solidFill>
            <a:srgbClr val="679cd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椭圆 35"/>
          <p:cNvSpPr/>
          <p:nvPr/>
        </p:nvSpPr>
        <p:spPr>
          <a:xfrm>
            <a:off x="519120" y="3462480"/>
            <a:ext cx="235080" cy="234720"/>
          </a:xfrm>
          <a:prstGeom prst="ellipse">
            <a:avLst/>
          </a:prstGeom>
          <a:solidFill>
            <a:srgbClr val="e9b0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椭圆 36"/>
          <p:cNvSpPr/>
          <p:nvPr/>
        </p:nvSpPr>
        <p:spPr>
          <a:xfrm>
            <a:off x="519120" y="3895560"/>
            <a:ext cx="235080" cy="233640"/>
          </a:xfrm>
          <a:prstGeom prst="ellipse">
            <a:avLst/>
          </a:prstGeom>
          <a:solidFill>
            <a:srgbClr val="679cd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椭圆 37"/>
          <p:cNvSpPr/>
          <p:nvPr/>
        </p:nvSpPr>
        <p:spPr>
          <a:xfrm>
            <a:off x="519120" y="4327560"/>
            <a:ext cx="235080" cy="2350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1187280" y="336600"/>
            <a:ext cx="3672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9cd7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30"/>
          <p:cNvSpPr/>
          <p:nvPr/>
        </p:nvSpPr>
        <p:spPr>
          <a:xfrm>
            <a:off x="23328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38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1" name="灯片编号占位符 3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14E5-74AC-48FF-ACBA-6D43906F9CC4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1187280" y="336600"/>
            <a:ext cx="3672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9cd7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38"/>
          <p:cNvSpPr/>
          <p:nvPr/>
        </p:nvSpPr>
        <p:spPr>
          <a:xfrm>
            <a:off x="23328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39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40"/>
          <p:cNvSpPr/>
          <p:nvPr/>
        </p:nvSpPr>
        <p:spPr>
          <a:xfrm>
            <a:off x="757080" y="1262160"/>
            <a:ext cx="16844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41"/>
          <p:cNvSpPr/>
          <p:nvPr/>
        </p:nvSpPr>
        <p:spPr>
          <a:xfrm>
            <a:off x="493560" y="1886040"/>
            <a:ext cx="1947960" cy="2414520"/>
          </a:xfrm>
          <a:prstGeom prst="rect">
            <a:avLst/>
          </a:pr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42"/>
          <p:cNvSpPr/>
          <p:nvPr/>
        </p:nvSpPr>
        <p:spPr>
          <a:xfrm>
            <a:off x="2824200" y="1262160"/>
            <a:ext cx="16844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43"/>
          <p:cNvSpPr/>
          <p:nvPr/>
        </p:nvSpPr>
        <p:spPr>
          <a:xfrm>
            <a:off x="2560680" y="1886040"/>
            <a:ext cx="1947960" cy="2414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44"/>
          <p:cNvSpPr/>
          <p:nvPr/>
        </p:nvSpPr>
        <p:spPr>
          <a:xfrm>
            <a:off x="4892760" y="1262160"/>
            <a:ext cx="16826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46"/>
          <p:cNvSpPr/>
          <p:nvPr/>
        </p:nvSpPr>
        <p:spPr>
          <a:xfrm>
            <a:off x="4627440" y="1886040"/>
            <a:ext cx="1947960" cy="2414520"/>
          </a:xfrm>
          <a:prstGeom prst="rect">
            <a:avLst/>
          </a:pr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47"/>
          <p:cNvSpPr/>
          <p:nvPr/>
        </p:nvSpPr>
        <p:spPr>
          <a:xfrm>
            <a:off x="6959520" y="1262160"/>
            <a:ext cx="16830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49"/>
          <p:cNvSpPr/>
          <p:nvPr/>
        </p:nvSpPr>
        <p:spPr>
          <a:xfrm>
            <a:off x="6696000" y="1886040"/>
            <a:ext cx="1946520" cy="2414520"/>
          </a:xfrm>
          <a:prstGeom prst="rect">
            <a:avLst/>
          </a:pr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51"/>
          <p:cNvSpPr/>
          <p:nvPr/>
        </p:nvSpPr>
        <p:spPr>
          <a:xfrm>
            <a:off x="6727680" y="1365120"/>
            <a:ext cx="306360" cy="317520"/>
          </a:xfrm>
          <a:custGeom>
            <a:avLst/>
            <a:gdLst>
              <a:gd name="textAreaLeft" fmla="*/ 0 w 306360"/>
              <a:gd name="textAreaRight" fmla="*/ 306720 w 3063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964453" h="2029767">
                <a:moveTo>
                  <a:pt x="1341455" y="211016"/>
                </a:moveTo>
                <a:lnTo>
                  <a:pt x="351692" y="1296238"/>
                </a:lnTo>
                <a:lnTo>
                  <a:pt x="1341455" y="1296238"/>
                </a:lnTo>
                <a:lnTo>
                  <a:pt x="1341455" y="211016"/>
                </a:lnTo>
                <a:close/>
                <a:moveTo>
                  <a:pt x="1175657" y="0"/>
                </a:moveTo>
                <a:lnTo>
                  <a:pt x="1668026" y="0"/>
                </a:lnTo>
                <a:lnTo>
                  <a:pt x="1668026" y="1296238"/>
                </a:lnTo>
                <a:lnTo>
                  <a:pt x="1964453" y="1296238"/>
                </a:lnTo>
                <a:lnTo>
                  <a:pt x="1964453" y="1557495"/>
                </a:lnTo>
                <a:lnTo>
                  <a:pt x="1668026" y="1557495"/>
                </a:lnTo>
                <a:lnTo>
                  <a:pt x="1668026" y="2029767"/>
                </a:lnTo>
                <a:lnTo>
                  <a:pt x="1336431" y="2029767"/>
                </a:lnTo>
                <a:lnTo>
                  <a:pt x="1336431" y="1552471"/>
                </a:lnTo>
                <a:lnTo>
                  <a:pt x="0" y="1552471"/>
                </a:lnTo>
                <a:lnTo>
                  <a:pt x="0" y="1276141"/>
                </a:lnTo>
                <a:lnTo>
                  <a:pt x="1175657" y="0"/>
                </a:lnTo>
                <a:close/>
              </a:path>
            </a:pathLst>
          </a:cu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任意多边形 52"/>
          <p:cNvSpPr/>
          <p:nvPr/>
        </p:nvSpPr>
        <p:spPr>
          <a:xfrm>
            <a:off x="569880" y="1332000"/>
            <a:ext cx="85680" cy="382680"/>
          </a:xfrm>
          <a:custGeom>
            <a:avLst/>
            <a:gdLst>
              <a:gd name="textAreaLeft" fmla="*/ 0 w 85680"/>
              <a:gd name="textAreaRight" fmla="*/ 86040 w 856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453154" h="2023009">
                <a:moveTo>
                  <a:pt x="0" y="72828"/>
                </a:moveTo>
                <a:lnTo>
                  <a:pt x="0" y="291313"/>
                </a:lnTo>
                <a:lnTo>
                  <a:pt x="129473" y="372234"/>
                </a:lnTo>
                <a:lnTo>
                  <a:pt x="129473" y="2023009"/>
                </a:lnTo>
                <a:lnTo>
                  <a:pt x="453154" y="2023009"/>
                </a:lnTo>
                <a:lnTo>
                  <a:pt x="453154" y="0"/>
                </a:lnTo>
                <a:lnTo>
                  <a:pt x="0" y="72828"/>
                </a:lnTo>
                <a:close/>
              </a:path>
            </a:pathLst>
          </a:custGeom>
          <a:solidFill>
            <a:srgbClr val="368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03"/>
          <p:cNvSpPr/>
          <p:nvPr/>
        </p:nvSpPr>
        <p:spPr>
          <a:xfrm>
            <a:off x="2560680" y="1376280"/>
            <a:ext cx="257040" cy="308160"/>
          </a:xfrm>
          <a:custGeom>
            <a:avLst/>
            <a:gdLst>
              <a:gd name="textAreaLeft" fmla="*/ 0 w 257040"/>
              <a:gd name="textAreaRight" fmla="*/ 257400 w 25704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684008" h="2016488">
                <a:moveTo>
                  <a:pt x="26406" y="0"/>
                </a:moveTo>
                <a:lnTo>
                  <a:pt x="1032202" y="0"/>
                </a:lnTo>
                <a:lnTo>
                  <a:pt x="1038948" y="0"/>
                </a:lnTo>
                <a:cubicBezTo>
                  <a:pt x="1394422" y="0"/>
                  <a:pt x="1673637" y="202431"/>
                  <a:pt x="1682590" y="542951"/>
                </a:cubicBezTo>
                <a:cubicBezTo>
                  <a:pt x="1682590" y="875342"/>
                  <a:pt x="1416805" y="1085904"/>
                  <a:pt x="1038948" y="1085904"/>
                </a:cubicBezTo>
                <a:lnTo>
                  <a:pt x="1034518" y="1085904"/>
                </a:lnTo>
                <a:lnTo>
                  <a:pt x="1034518" y="1092963"/>
                </a:lnTo>
                <a:lnTo>
                  <a:pt x="634042" y="1091963"/>
                </a:lnTo>
                <a:cubicBezTo>
                  <a:pt x="318979" y="1090816"/>
                  <a:pt x="321139" y="1308125"/>
                  <a:pt x="319797" y="1417677"/>
                </a:cubicBezTo>
                <a:cubicBezTo>
                  <a:pt x="321381" y="1751378"/>
                  <a:pt x="317939" y="1411838"/>
                  <a:pt x="319522" y="1750563"/>
                </a:cubicBezTo>
                <a:cubicBezTo>
                  <a:pt x="332157" y="1748111"/>
                  <a:pt x="483703" y="1746817"/>
                  <a:pt x="1684008" y="1749451"/>
                </a:cubicBezTo>
                <a:lnTo>
                  <a:pt x="1684008" y="2016488"/>
                </a:lnTo>
                <a:lnTo>
                  <a:pt x="865" y="2016488"/>
                </a:lnTo>
                <a:lnTo>
                  <a:pt x="865" y="1435837"/>
                </a:lnTo>
                <a:cubicBezTo>
                  <a:pt x="-20530" y="914975"/>
                  <a:pt x="360008" y="821166"/>
                  <a:pt x="569727" y="822819"/>
                </a:cubicBezTo>
                <a:lnTo>
                  <a:pt x="828683" y="822819"/>
                </a:lnTo>
                <a:lnTo>
                  <a:pt x="967760" y="822819"/>
                </a:lnTo>
                <a:lnTo>
                  <a:pt x="967580" y="822085"/>
                </a:lnTo>
                <a:cubicBezTo>
                  <a:pt x="1160165" y="822085"/>
                  <a:pt x="1316285" y="739175"/>
                  <a:pt x="1316285" y="576718"/>
                </a:cubicBezTo>
                <a:lnTo>
                  <a:pt x="1316285" y="512207"/>
                </a:lnTo>
                <a:cubicBezTo>
                  <a:pt x="1316285" y="349750"/>
                  <a:pt x="1160165" y="238382"/>
                  <a:pt x="967580" y="238382"/>
                </a:cubicBezTo>
                <a:lnTo>
                  <a:pt x="30883" y="240249"/>
                </a:lnTo>
                <a:cubicBezTo>
                  <a:pt x="29391" y="160166"/>
                  <a:pt x="27898" y="80083"/>
                  <a:pt x="26406" y="0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06"/>
          <p:cNvSpPr/>
          <p:nvPr/>
        </p:nvSpPr>
        <p:spPr>
          <a:xfrm>
            <a:off x="4648320" y="1365120"/>
            <a:ext cx="252360" cy="317520"/>
          </a:xfrm>
          <a:custGeom>
            <a:avLst/>
            <a:gdLst>
              <a:gd name="textAreaLeft" fmla="*/ 0 w 252360"/>
              <a:gd name="textAreaRight" fmla="*/ 252720 w 2523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618211" h="2029178">
                <a:moveTo>
                  <a:pt x="0" y="0"/>
                </a:moveTo>
                <a:lnTo>
                  <a:pt x="1008937" y="0"/>
                </a:lnTo>
                <a:cubicBezTo>
                  <a:pt x="1593408" y="3399"/>
                  <a:pt x="1632703" y="396524"/>
                  <a:pt x="1615118" y="567276"/>
                </a:cubicBezTo>
                <a:cubicBezTo>
                  <a:pt x="1615118" y="810671"/>
                  <a:pt x="1450478" y="937488"/>
                  <a:pt x="1221925" y="989645"/>
                </a:cubicBezTo>
                <a:cubicBezTo>
                  <a:pt x="1451157" y="1044286"/>
                  <a:pt x="1616371" y="1177471"/>
                  <a:pt x="1616371" y="1433498"/>
                </a:cubicBezTo>
                <a:cubicBezTo>
                  <a:pt x="1633956" y="1612799"/>
                  <a:pt x="1519299" y="2020333"/>
                  <a:pt x="1010190" y="2029178"/>
                </a:cubicBezTo>
                <a:lnTo>
                  <a:pt x="1253" y="2029178"/>
                </a:lnTo>
                <a:lnTo>
                  <a:pt x="5714" y="1765597"/>
                </a:lnTo>
                <a:lnTo>
                  <a:pt x="939076" y="1767646"/>
                </a:lnTo>
                <a:cubicBezTo>
                  <a:pt x="1130975" y="1767646"/>
                  <a:pt x="1286539" y="1645462"/>
                  <a:pt x="1286539" y="1467228"/>
                </a:cubicBezTo>
                <a:cubicBezTo>
                  <a:pt x="1282925" y="1199830"/>
                  <a:pt x="1098440" y="1113301"/>
                  <a:pt x="853665" y="1107160"/>
                </a:cubicBezTo>
                <a:lnTo>
                  <a:pt x="854417" y="1104893"/>
                </a:lnTo>
                <a:lnTo>
                  <a:pt x="208492" y="1104893"/>
                </a:lnTo>
                <a:lnTo>
                  <a:pt x="208492" y="854909"/>
                </a:lnTo>
                <a:lnTo>
                  <a:pt x="859259" y="854909"/>
                </a:lnTo>
                <a:lnTo>
                  <a:pt x="857436" y="847908"/>
                </a:lnTo>
                <a:cubicBezTo>
                  <a:pt x="1132357" y="842060"/>
                  <a:pt x="1281672" y="789802"/>
                  <a:pt x="1285286" y="535154"/>
                </a:cubicBezTo>
                <a:cubicBezTo>
                  <a:pt x="1285286" y="365419"/>
                  <a:pt x="1129722" y="249061"/>
                  <a:pt x="937823" y="249061"/>
                </a:cubicBezTo>
                <a:lnTo>
                  <a:pt x="4461" y="251012"/>
                </a:lnTo>
                <a:lnTo>
                  <a:pt x="0" y="0"/>
                </a:lnTo>
                <a:close/>
              </a:path>
            </a:pathLst>
          </a:cu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55"/>
          <p:cNvSpPr/>
          <p:nvPr/>
        </p:nvSpPr>
        <p:spPr>
          <a:xfrm>
            <a:off x="484200" y="1781280"/>
            <a:ext cx="1947960" cy="34920"/>
          </a:xfrm>
          <a:prstGeom prst="rect">
            <a:avLst/>
          </a:prstGeom>
          <a:solidFill>
            <a:srgbClr val="368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56"/>
          <p:cNvSpPr/>
          <p:nvPr/>
        </p:nvSpPr>
        <p:spPr>
          <a:xfrm>
            <a:off x="2552760" y="1781280"/>
            <a:ext cx="1946160" cy="34920"/>
          </a:xfrm>
          <a:prstGeom prst="rect">
            <a:avLst/>
          </a:prstGeom>
          <a:solidFill>
            <a:srgbClr val="1e6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57"/>
          <p:cNvSpPr/>
          <p:nvPr/>
        </p:nvSpPr>
        <p:spPr>
          <a:xfrm>
            <a:off x="4619520" y="1781280"/>
            <a:ext cx="1946520" cy="34920"/>
          </a:xfrm>
          <a:prstGeom prst="rect">
            <a:avLst/>
          </a:pr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58"/>
          <p:cNvSpPr/>
          <p:nvPr/>
        </p:nvSpPr>
        <p:spPr>
          <a:xfrm>
            <a:off x="6686640" y="1781280"/>
            <a:ext cx="1947600" cy="34920"/>
          </a:xfrm>
          <a:prstGeom prst="rect">
            <a:avLst/>
          </a:pr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59"/>
          <p:cNvSpPr/>
          <p:nvPr/>
        </p:nvSpPr>
        <p:spPr>
          <a:xfrm>
            <a:off x="946800" y="1944720"/>
            <a:ext cx="11559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图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60"/>
          <p:cNvSpPr/>
          <p:nvPr/>
        </p:nvSpPr>
        <p:spPr>
          <a:xfrm>
            <a:off x="2962800" y="1941480"/>
            <a:ext cx="11559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图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61"/>
          <p:cNvSpPr/>
          <p:nvPr/>
        </p:nvSpPr>
        <p:spPr>
          <a:xfrm>
            <a:off x="5051160" y="1935000"/>
            <a:ext cx="11559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图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62"/>
          <p:cNvSpPr/>
          <p:nvPr/>
        </p:nvSpPr>
        <p:spPr>
          <a:xfrm>
            <a:off x="7138800" y="1938240"/>
            <a:ext cx="11559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图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6" name="灯片编号占位符 3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0D2A-D82C-4A6C-AC5A-652405F736B3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1187280" y="336600"/>
            <a:ext cx="3672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9cd7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38"/>
          <p:cNvSpPr/>
          <p:nvPr/>
        </p:nvSpPr>
        <p:spPr>
          <a:xfrm>
            <a:off x="23328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39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 19"/>
          <p:cNvSpPr/>
          <p:nvPr/>
        </p:nvSpPr>
        <p:spPr>
          <a:xfrm>
            <a:off x="6573960" y="1484280"/>
            <a:ext cx="1917720" cy="191772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1917720"/>
              <a:gd name="textAreaBottom" fmla="*/ 1918080 h 1917720"/>
            </a:gdLst>
            <a:ahLst/>
            <a:rect l="textAreaLeft" t="textAreaTop" r="textAreaRight" b="textAreaBottom"/>
            <a:pathLst>
              <a:path w="1840354" h="1840694">
                <a:moveTo>
                  <a:pt x="920176" y="61368"/>
                </a:moveTo>
                <a:cubicBezTo>
                  <a:pt x="445724" y="61368"/>
                  <a:pt x="61105" y="445946"/>
                  <a:pt x="61105" y="920348"/>
                </a:cubicBezTo>
                <a:cubicBezTo>
                  <a:pt x="61105" y="1394750"/>
                  <a:pt x="445724" y="1779328"/>
                  <a:pt x="920176" y="1779328"/>
                </a:cubicBezTo>
                <a:cubicBezTo>
                  <a:pt x="1394628" y="1779328"/>
                  <a:pt x="1779247" y="1394750"/>
                  <a:pt x="1779247" y="920348"/>
                </a:cubicBezTo>
                <a:cubicBezTo>
                  <a:pt x="1779247" y="445946"/>
                  <a:pt x="1394628" y="61368"/>
                  <a:pt x="920176" y="61368"/>
                </a:cubicBezTo>
                <a:close/>
                <a:moveTo>
                  <a:pt x="920177" y="0"/>
                </a:moveTo>
                <a:cubicBezTo>
                  <a:pt x="1428377" y="0"/>
                  <a:pt x="1840354" y="412053"/>
                  <a:pt x="1840354" y="920347"/>
                </a:cubicBezTo>
                <a:cubicBezTo>
                  <a:pt x="1840354" y="1428641"/>
                  <a:pt x="1428377" y="1840694"/>
                  <a:pt x="920177" y="1840694"/>
                </a:cubicBezTo>
                <a:cubicBezTo>
                  <a:pt x="411977" y="1840694"/>
                  <a:pt x="0" y="1428641"/>
                  <a:pt x="0" y="920347"/>
                </a:cubicBezTo>
                <a:cubicBezTo>
                  <a:pt x="0" y="412053"/>
                  <a:pt x="411977" y="0"/>
                  <a:pt x="920177" y="0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泪滴形 21"/>
          <p:cNvSpPr/>
          <p:nvPr/>
        </p:nvSpPr>
        <p:spPr>
          <a:xfrm rot="2700000">
            <a:off x="4593960" y="1486080"/>
            <a:ext cx="1912680" cy="1912680"/>
          </a:xfrm>
          <a:custGeom>
            <a:avLst/>
            <a:gdLst>
              <a:gd name="textAreaLeft" fmla="*/ 0 w 1912680"/>
              <a:gd name="textAreaRight" fmla="*/ 1913040 w 191268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1835922" h="1835922">
                <a:moveTo>
                  <a:pt x="310571" y="310571"/>
                </a:moveTo>
                <a:cubicBezTo>
                  <a:pt x="-24918" y="646059"/>
                  <a:pt x="-24947" y="1189963"/>
                  <a:pt x="310506" y="1525416"/>
                </a:cubicBezTo>
                <a:cubicBezTo>
                  <a:pt x="645959" y="1860869"/>
                  <a:pt x="1189864" y="1860840"/>
                  <a:pt x="1525352" y="1525352"/>
                </a:cubicBezTo>
                <a:cubicBezTo>
                  <a:pt x="1860840" y="1189864"/>
                  <a:pt x="1860869" y="645959"/>
                  <a:pt x="1525416" y="310506"/>
                </a:cubicBezTo>
                <a:cubicBezTo>
                  <a:pt x="1189963" y="-24946"/>
                  <a:pt x="646059" y="-24917"/>
                  <a:pt x="310571" y="310571"/>
                </a:cubicBezTo>
                <a:close/>
                <a:moveTo>
                  <a:pt x="268865" y="268865"/>
                </a:moveTo>
                <a:cubicBezTo>
                  <a:pt x="434983" y="102746"/>
                  <a:pt x="664474" y="0"/>
                  <a:pt x="917962" y="0"/>
                </a:cubicBezTo>
                <a:lnTo>
                  <a:pt x="1835922" y="0"/>
                </a:lnTo>
                <a:lnTo>
                  <a:pt x="1835921" y="917961"/>
                </a:lnTo>
                <a:cubicBezTo>
                  <a:pt x="1835922" y="1424937"/>
                  <a:pt x="1424937" y="1835922"/>
                  <a:pt x="917961" y="1835922"/>
                </a:cubicBezTo>
                <a:cubicBezTo>
                  <a:pt x="410985" y="1835922"/>
                  <a:pt x="0" y="1424937"/>
                  <a:pt x="0" y="917961"/>
                </a:cubicBezTo>
                <a:lnTo>
                  <a:pt x="1" y="917961"/>
                </a:lnTo>
                <a:cubicBezTo>
                  <a:pt x="1" y="664473"/>
                  <a:pt x="102747" y="434983"/>
                  <a:pt x="268865" y="268865"/>
                </a:cubicBezTo>
                <a:close/>
              </a:path>
            </a:pathLst>
          </a:cu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泪滴形 23"/>
          <p:cNvSpPr/>
          <p:nvPr/>
        </p:nvSpPr>
        <p:spPr>
          <a:xfrm rot="2700000">
            <a:off x="2611800" y="1485720"/>
            <a:ext cx="1912680" cy="1913040"/>
          </a:xfrm>
          <a:custGeom>
            <a:avLst/>
            <a:gdLst>
              <a:gd name="textAreaLeft" fmla="*/ 0 w 1912680"/>
              <a:gd name="textAreaRight" fmla="*/ 1913040 w 1912680"/>
              <a:gd name="textAreaTop" fmla="*/ 0 h 1913040"/>
              <a:gd name="textAreaBottom" fmla="*/ 1913400 h 1913040"/>
            </a:gdLst>
            <a:ahLst/>
            <a:rect l="textAreaLeft" t="textAreaTop" r="textAreaRight" b="textAreaBottom"/>
            <a:pathLst>
              <a:path w="1835922" h="1835922">
                <a:moveTo>
                  <a:pt x="310571" y="310571"/>
                </a:moveTo>
                <a:cubicBezTo>
                  <a:pt x="-24917" y="646059"/>
                  <a:pt x="-24946" y="1189963"/>
                  <a:pt x="310507" y="1525416"/>
                </a:cubicBezTo>
                <a:cubicBezTo>
                  <a:pt x="645959" y="1860869"/>
                  <a:pt x="1189864" y="1860840"/>
                  <a:pt x="1525352" y="1525352"/>
                </a:cubicBezTo>
                <a:cubicBezTo>
                  <a:pt x="1860840" y="1189864"/>
                  <a:pt x="1860869" y="645959"/>
                  <a:pt x="1525416" y="310506"/>
                </a:cubicBezTo>
                <a:cubicBezTo>
                  <a:pt x="1189964" y="-24947"/>
                  <a:pt x="646059" y="-24918"/>
                  <a:pt x="310571" y="310571"/>
                </a:cubicBezTo>
                <a:close/>
                <a:moveTo>
                  <a:pt x="268865" y="268864"/>
                </a:moveTo>
                <a:cubicBezTo>
                  <a:pt x="434984" y="102746"/>
                  <a:pt x="664474" y="0"/>
                  <a:pt x="917962" y="0"/>
                </a:cubicBezTo>
                <a:lnTo>
                  <a:pt x="1835922" y="0"/>
                </a:lnTo>
                <a:lnTo>
                  <a:pt x="1835922" y="917961"/>
                </a:lnTo>
                <a:cubicBezTo>
                  <a:pt x="1835922" y="1424937"/>
                  <a:pt x="1424937" y="1835922"/>
                  <a:pt x="917961" y="1835922"/>
                </a:cubicBezTo>
                <a:cubicBezTo>
                  <a:pt x="410985" y="1835922"/>
                  <a:pt x="0" y="1424937"/>
                  <a:pt x="0" y="917961"/>
                </a:cubicBezTo>
                <a:lnTo>
                  <a:pt x="1" y="917961"/>
                </a:lnTo>
                <a:cubicBezTo>
                  <a:pt x="1" y="664473"/>
                  <a:pt x="102747" y="434983"/>
                  <a:pt x="268865" y="268864"/>
                </a:cubicBezTo>
                <a:close/>
              </a:path>
            </a:pathLst>
          </a:cu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泪滴形 25"/>
          <p:cNvSpPr/>
          <p:nvPr/>
        </p:nvSpPr>
        <p:spPr>
          <a:xfrm rot="2700000">
            <a:off x="529200" y="1485000"/>
            <a:ext cx="1912680" cy="1914840"/>
          </a:xfrm>
          <a:custGeom>
            <a:avLst/>
            <a:gdLst>
              <a:gd name="textAreaLeft" fmla="*/ 0 w 1912680"/>
              <a:gd name="textAreaRight" fmla="*/ 1913040 w 1912680"/>
              <a:gd name="textAreaTop" fmla="*/ 0 h 1914840"/>
              <a:gd name="textAreaBottom" fmla="*/ 1915200 h 1914840"/>
            </a:gdLst>
            <a:ahLst/>
            <a:rect l="textAreaLeft" t="textAreaTop" r="textAreaRight" b="textAreaBottom"/>
            <a:pathLst>
              <a:path w="1835922" h="1835922">
                <a:moveTo>
                  <a:pt x="310571" y="310571"/>
                </a:moveTo>
                <a:cubicBezTo>
                  <a:pt x="-24917" y="646059"/>
                  <a:pt x="-24946" y="1189963"/>
                  <a:pt x="310507" y="1525416"/>
                </a:cubicBezTo>
                <a:cubicBezTo>
                  <a:pt x="645959" y="1860869"/>
                  <a:pt x="1189864" y="1860840"/>
                  <a:pt x="1525352" y="1525352"/>
                </a:cubicBezTo>
                <a:cubicBezTo>
                  <a:pt x="1860840" y="1189864"/>
                  <a:pt x="1860869" y="645959"/>
                  <a:pt x="1525416" y="310506"/>
                </a:cubicBezTo>
                <a:cubicBezTo>
                  <a:pt x="1189964" y="-24947"/>
                  <a:pt x="646059" y="-24918"/>
                  <a:pt x="310571" y="310571"/>
                </a:cubicBezTo>
                <a:close/>
                <a:moveTo>
                  <a:pt x="268865" y="268864"/>
                </a:moveTo>
                <a:cubicBezTo>
                  <a:pt x="434984" y="102746"/>
                  <a:pt x="664474" y="0"/>
                  <a:pt x="917962" y="0"/>
                </a:cubicBezTo>
                <a:lnTo>
                  <a:pt x="1835922" y="0"/>
                </a:lnTo>
                <a:lnTo>
                  <a:pt x="1835922" y="917961"/>
                </a:lnTo>
                <a:cubicBezTo>
                  <a:pt x="1835922" y="1424937"/>
                  <a:pt x="1424937" y="1835922"/>
                  <a:pt x="917961" y="1835922"/>
                </a:cubicBezTo>
                <a:cubicBezTo>
                  <a:pt x="410985" y="1835922"/>
                  <a:pt x="0" y="1424937"/>
                  <a:pt x="0" y="917961"/>
                </a:cubicBezTo>
                <a:lnTo>
                  <a:pt x="1" y="917961"/>
                </a:lnTo>
                <a:cubicBezTo>
                  <a:pt x="1" y="664473"/>
                  <a:pt x="102747" y="434983"/>
                  <a:pt x="268865" y="268864"/>
                </a:cubicBezTo>
                <a:close/>
              </a:path>
            </a:pathLst>
          </a:cu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31"/>
          <p:cNvSpPr/>
          <p:nvPr/>
        </p:nvSpPr>
        <p:spPr>
          <a:xfrm>
            <a:off x="1058760" y="177948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9cd7"/>
                </a:solidFill>
                <a:latin typeface="微软雅黑"/>
                <a:ea typeface="微软雅黑"/>
              </a:rPr>
              <a:t>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32"/>
          <p:cNvSpPr/>
          <p:nvPr/>
        </p:nvSpPr>
        <p:spPr>
          <a:xfrm>
            <a:off x="3140640" y="177948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9b046"/>
                </a:solidFill>
                <a:latin typeface="微软雅黑"/>
                <a:ea typeface="微软雅黑"/>
              </a:rPr>
              <a:t>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33"/>
          <p:cNvSpPr/>
          <p:nvPr/>
        </p:nvSpPr>
        <p:spPr>
          <a:xfrm>
            <a:off x="5123520" y="177948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c51b"/>
                </a:solidFill>
                <a:latin typeface="微软雅黑"/>
                <a:ea typeface="微软雅黑"/>
              </a:rPr>
              <a:t>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34"/>
          <p:cNvSpPr/>
          <p:nvPr/>
        </p:nvSpPr>
        <p:spPr>
          <a:xfrm>
            <a:off x="7106040" y="177948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36"/>
          <p:cNvSpPr/>
          <p:nvPr/>
        </p:nvSpPr>
        <p:spPr>
          <a:xfrm>
            <a:off x="1075320" y="2139840"/>
            <a:ext cx="8848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45"/>
          <p:cNvSpPr/>
          <p:nvPr/>
        </p:nvSpPr>
        <p:spPr>
          <a:xfrm>
            <a:off x="3157200" y="2139840"/>
            <a:ext cx="8848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48"/>
          <p:cNvSpPr/>
          <p:nvPr/>
        </p:nvSpPr>
        <p:spPr>
          <a:xfrm>
            <a:off x="5139720" y="2139840"/>
            <a:ext cx="8848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50"/>
          <p:cNvSpPr/>
          <p:nvPr/>
        </p:nvSpPr>
        <p:spPr>
          <a:xfrm>
            <a:off x="7121880" y="2139840"/>
            <a:ext cx="8848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使用建议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9" name="灯片编号占位符 1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C7CC-CCF6-4138-94CE-E4E438CF5B1A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182520" y="2509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1187280" y="336600"/>
            <a:ext cx="3065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b921"/>
                </a:solidFill>
                <a:latin typeface="Impact"/>
                <a:ea typeface="微软雅黑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7"/>
          <p:cNvSpPr/>
          <p:nvPr/>
        </p:nvSpPr>
        <p:spPr>
          <a:xfrm>
            <a:off x="504720" y="2790720"/>
            <a:ext cx="1540080" cy="658800"/>
          </a:xfrm>
          <a:prstGeom prst="rect">
            <a:avLst/>
          </a:pr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103,156,2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8"/>
          <p:cNvSpPr/>
          <p:nvPr/>
        </p:nvSpPr>
        <p:spPr>
          <a:xfrm>
            <a:off x="504720" y="3511440"/>
            <a:ext cx="1540080" cy="658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89,89,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9"/>
          <p:cNvSpPr/>
          <p:nvPr/>
        </p:nvSpPr>
        <p:spPr>
          <a:xfrm>
            <a:off x="504720" y="2068560"/>
            <a:ext cx="1540080" cy="660240"/>
          </a:xfrm>
          <a:prstGeom prst="rect">
            <a:avLst/>
          </a:pr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233,176,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0"/>
          <p:cNvSpPr/>
          <p:nvPr/>
        </p:nvSpPr>
        <p:spPr>
          <a:xfrm>
            <a:off x="504720" y="1347840"/>
            <a:ext cx="1540080" cy="658800"/>
          </a:xfrm>
          <a:prstGeom prst="rect">
            <a:avLst/>
          </a:prstGeom>
          <a:solidFill>
            <a:srgbClr val="91b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145,185,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2128680" y="1343160"/>
            <a:ext cx="656460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3" name="灯片编号占位符 3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E850-1B17-4731-9EA9-E8AAB072B750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"/>
          <p:cNvSpPr/>
          <p:nvPr/>
        </p:nvSpPr>
        <p:spPr>
          <a:xfrm>
            <a:off x="1187280" y="336600"/>
            <a:ext cx="3672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9cd7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38"/>
          <p:cNvSpPr/>
          <p:nvPr/>
        </p:nvSpPr>
        <p:spPr>
          <a:xfrm>
            <a:off x="23328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39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任意多边形 14"/>
          <p:cNvSpPr/>
          <p:nvPr/>
        </p:nvSpPr>
        <p:spPr>
          <a:xfrm>
            <a:off x="3948120" y="1085760"/>
            <a:ext cx="1179360" cy="766800"/>
          </a:xfrm>
          <a:prstGeom prst="pie">
            <a:avLst/>
          </a:pr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任意多边形 15"/>
          <p:cNvSpPr/>
          <p:nvPr/>
        </p:nvSpPr>
        <p:spPr>
          <a:xfrm>
            <a:off x="5408640" y="2104920"/>
            <a:ext cx="1179360" cy="766800"/>
          </a:xfrm>
          <a:prstGeom prst="pie">
            <a:avLst/>
          </a:pr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任意多边形 16"/>
          <p:cNvSpPr/>
          <p:nvPr/>
        </p:nvSpPr>
        <p:spPr>
          <a:xfrm>
            <a:off x="4960800" y="3821040"/>
            <a:ext cx="1181160" cy="7668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任意多边形 17"/>
          <p:cNvSpPr/>
          <p:nvPr/>
        </p:nvSpPr>
        <p:spPr>
          <a:xfrm>
            <a:off x="2935440" y="3821040"/>
            <a:ext cx="1179360" cy="766800"/>
          </a:xfrm>
          <a:prstGeom prst="pie">
            <a:avLst/>
          </a:pr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任意多边形 18"/>
          <p:cNvSpPr/>
          <p:nvPr/>
        </p:nvSpPr>
        <p:spPr>
          <a:xfrm>
            <a:off x="2487600" y="2104920"/>
            <a:ext cx="1181160" cy="7668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上箭头 19"/>
          <p:cNvSpPr/>
          <p:nvPr/>
        </p:nvSpPr>
        <p:spPr>
          <a:xfrm rot="2886600">
            <a:off x="3243240" y="1577880"/>
            <a:ext cx="399960" cy="450720"/>
          </a:xfrm>
          <a:prstGeom prst="upArrow">
            <a:avLst>
              <a:gd name="adj1" fmla="val 50000"/>
              <a:gd name="adj2" fmla="val 5016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上箭头 20"/>
          <p:cNvSpPr/>
          <p:nvPr/>
        </p:nvSpPr>
        <p:spPr>
          <a:xfrm rot="8012400">
            <a:off x="5434920" y="1577520"/>
            <a:ext cx="399960" cy="451080"/>
          </a:xfrm>
          <a:prstGeom prst="upArrow">
            <a:avLst>
              <a:gd name="adj1" fmla="val 50000"/>
              <a:gd name="adj2" fmla="val 5020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上箭头 21"/>
          <p:cNvSpPr/>
          <p:nvPr/>
        </p:nvSpPr>
        <p:spPr>
          <a:xfrm rot="12159000">
            <a:off x="5592600" y="3123720"/>
            <a:ext cx="401760" cy="451080"/>
          </a:xfrm>
          <a:prstGeom prst="upArrow">
            <a:avLst>
              <a:gd name="adj1" fmla="val 50000"/>
              <a:gd name="adj2" fmla="val 49983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上箭头 22"/>
          <p:cNvSpPr/>
          <p:nvPr/>
        </p:nvSpPr>
        <p:spPr>
          <a:xfrm rot="16200000">
            <a:off x="4338720" y="3965040"/>
            <a:ext cx="399960" cy="451080"/>
          </a:xfrm>
          <a:prstGeom prst="upArrow">
            <a:avLst>
              <a:gd name="adj1" fmla="val 50000"/>
              <a:gd name="adj2" fmla="val 5020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上箭头 23"/>
          <p:cNvSpPr/>
          <p:nvPr/>
        </p:nvSpPr>
        <p:spPr>
          <a:xfrm rot="20220600">
            <a:off x="3083040" y="3123720"/>
            <a:ext cx="401400" cy="451080"/>
          </a:xfrm>
          <a:prstGeom prst="upArrow">
            <a:avLst>
              <a:gd name="adj1" fmla="val 50000"/>
              <a:gd name="adj2" fmla="val 5002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8" name="灯片编号占位符 3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1A63-20B1-4F31-B216-D66A05F592DA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1187280" y="336600"/>
            <a:ext cx="3672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9cd7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38"/>
          <p:cNvSpPr/>
          <p:nvPr/>
        </p:nvSpPr>
        <p:spPr>
          <a:xfrm>
            <a:off x="23328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39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组合 24"/>
          <p:cNvGrpSpPr/>
          <p:nvPr/>
        </p:nvGrpSpPr>
        <p:grpSpPr>
          <a:xfrm>
            <a:off x="907920" y="1327320"/>
            <a:ext cx="3076920" cy="3043440"/>
            <a:chOff x="907920" y="1327320"/>
            <a:chExt cx="3076920" cy="3043440"/>
          </a:xfrm>
        </p:grpSpPr>
        <p:grpSp>
          <p:nvGrpSpPr>
            <p:cNvPr id="693" name="组合 25"/>
            <p:cNvGrpSpPr/>
            <p:nvPr/>
          </p:nvGrpSpPr>
          <p:grpSpPr>
            <a:xfrm>
              <a:off x="1059480" y="1327320"/>
              <a:ext cx="2925360" cy="3043440"/>
              <a:chOff x="1059480" y="1327320"/>
              <a:chExt cx="2925360" cy="3043440"/>
            </a:xfrm>
          </p:grpSpPr>
          <p:grpSp>
            <p:nvGrpSpPr>
              <p:cNvPr id="694" name="组合 32"/>
              <p:cNvGrpSpPr/>
              <p:nvPr/>
            </p:nvGrpSpPr>
            <p:grpSpPr>
              <a:xfrm>
                <a:off x="1059480" y="1327320"/>
                <a:ext cx="2925360" cy="2962440"/>
                <a:chOff x="1059480" y="1327320"/>
                <a:chExt cx="2925360" cy="2962440"/>
              </a:xfrm>
            </p:grpSpPr>
            <p:grpSp>
              <p:nvGrpSpPr>
                <p:cNvPr id="695" name="组合 36"/>
                <p:cNvGrpSpPr/>
                <p:nvPr/>
              </p:nvGrpSpPr>
              <p:grpSpPr>
                <a:xfrm>
                  <a:off x="1307160" y="1464840"/>
                  <a:ext cx="2677680" cy="2824920"/>
                  <a:chOff x="1307160" y="1464840"/>
                  <a:chExt cx="2677680" cy="2824920"/>
                </a:xfrm>
              </p:grpSpPr>
              <p:grpSp>
                <p:nvGrpSpPr>
                  <p:cNvPr id="696" name="组合 41"/>
                  <p:cNvGrpSpPr/>
                  <p:nvPr/>
                </p:nvGrpSpPr>
                <p:grpSpPr>
                  <a:xfrm>
                    <a:off x="1307160" y="1464840"/>
                    <a:ext cx="2671560" cy="2574000"/>
                    <a:chOff x="1307160" y="1464840"/>
                    <a:chExt cx="2671560" cy="2574000"/>
                  </a:xfrm>
                </p:grpSpPr>
                <p:sp>
                  <p:nvSpPr>
                    <p:cNvPr id="697" name="任意多边形 43"/>
                    <p:cNvSpPr/>
                    <p:nvPr/>
                  </p:nvSpPr>
                  <p:spPr>
                    <a:xfrm>
                      <a:off x="1378440" y="4028400"/>
                      <a:ext cx="260028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72530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351693" y="0"/>
                          </a:lnTo>
                          <a:lnTo>
                            <a:pt x="1772530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404040">
                          <a:alpha val="69000"/>
                        </a:srgbClr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任意多边形 44"/>
                    <p:cNvSpPr/>
                    <p:nvPr/>
                  </p:nvSpPr>
                  <p:spPr>
                    <a:xfrm>
                      <a:off x="1378440" y="1464840"/>
                      <a:ext cx="360" cy="257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883877">
                          <a:moveTo>
                            <a:pt x="0" y="2883877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404040">
                          <a:alpha val="69000"/>
                        </a:srgbClr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任意多边形 45"/>
                    <p:cNvSpPr/>
                    <p:nvPr/>
                  </p:nvSpPr>
                  <p:spPr>
                    <a:xfrm>
                      <a:off x="1307160" y="2888280"/>
                      <a:ext cx="709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50" h="0">
                          <a:moveTo>
                            <a:pt x="0" y="0"/>
                          </a:moveTo>
                          <a:lnTo>
                            <a:pt x="95250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ffff">
                          <a:alpha val="69000"/>
                        </a:srgbClr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任意多边形 46"/>
                    <p:cNvSpPr/>
                    <p:nvPr/>
                  </p:nvSpPr>
                  <p:spPr>
                    <a:xfrm>
                      <a:off x="1307160" y="3444120"/>
                      <a:ext cx="709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50" h="0">
                          <a:moveTo>
                            <a:pt x="0" y="0"/>
                          </a:moveTo>
                          <a:lnTo>
                            <a:pt x="95250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ffff">
                          <a:alpha val="69000"/>
                        </a:srgbClr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任意多边形 47"/>
                    <p:cNvSpPr/>
                    <p:nvPr/>
                  </p:nvSpPr>
                  <p:spPr>
                    <a:xfrm>
                      <a:off x="1307160" y="2332440"/>
                      <a:ext cx="709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50" h="0">
                          <a:moveTo>
                            <a:pt x="0" y="0"/>
                          </a:moveTo>
                          <a:lnTo>
                            <a:pt x="95250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ffff">
                          <a:alpha val="69000"/>
                        </a:srgbClr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任意多边形 48"/>
                    <p:cNvSpPr/>
                    <p:nvPr/>
                  </p:nvSpPr>
                  <p:spPr>
                    <a:xfrm>
                      <a:off x="1307160" y="1776240"/>
                      <a:ext cx="709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50" h="0">
                          <a:moveTo>
                            <a:pt x="0" y="0"/>
                          </a:moveTo>
                          <a:lnTo>
                            <a:pt x="95250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ffff">
                          <a:alpha val="69000"/>
                        </a:srgbClr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3" name="TextBox 42"/>
                  <p:cNvSpPr/>
                  <p:nvPr/>
                </p:nvSpPr>
                <p:spPr>
                  <a:xfrm>
                    <a:off x="3711240" y="4028400"/>
                    <a:ext cx="273600" cy="26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404040"/>
                        </a:solidFill>
                        <a:latin typeface="Arial"/>
                      </a:rPr>
                      <a:t>X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" name="TextBox 40"/>
                <p:cNvSpPr/>
                <p:nvPr/>
              </p:nvSpPr>
              <p:spPr>
                <a:xfrm>
                  <a:off x="1059480" y="1327320"/>
                  <a:ext cx="2736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404040"/>
                      </a:solidFill>
                      <a:latin typeface="Arial"/>
                    </a:rPr>
                    <a:t>Y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矩形 33"/>
              <p:cNvSpPr/>
              <p:nvPr/>
            </p:nvSpPr>
            <p:spPr>
              <a:xfrm>
                <a:off x="1702080" y="4033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矩形 34"/>
              <p:cNvSpPr/>
              <p:nvPr/>
            </p:nvSpPr>
            <p:spPr>
              <a:xfrm>
                <a:off x="2448360" y="4033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矩形 35"/>
              <p:cNvSpPr/>
              <p:nvPr/>
            </p:nvSpPr>
            <p:spPr>
              <a:xfrm>
                <a:off x="3184200" y="40334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组合 26"/>
            <p:cNvGrpSpPr/>
            <p:nvPr/>
          </p:nvGrpSpPr>
          <p:grpSpPr>
            <a:xfrm>
              <a:off x="907920" y="1598400"/>
              <a:ext cx="418680" cy="2548800"/>
              <a:chOff x="907920" y="1598400"/>
              <a:chExt cx="418680" cy="2548800"/>
            </a:xfrm>
          </p:grpSpPr>
          <p:sp>
            <p:nvSpPr>
              <p:cNvPr id="709" name="TextBox 27"/>
              <p:cNvSpPr/>
              <p:nvPr/>
            </p:nvSpPr>
            <p:spPr>
              <a:xfrm>
                <a:off x="907920" y="1598400"/>
                <a:ext cx="41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040"/>
                    </a:solidFill>
                    <a:latin typeface="Arial"/>
                  </a:rPr>
                  <a:t>1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TextBox 28"/>
              <p:cNvSpPr/>
              <p:nvPr/>
            </p:nvSpPr>
            <p:spPr>
              <a:xfrm>
                <a:off x="987840" y="2170080"/>
                <a:ext cx="336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040"/>
                    </a:solidFill>
                    <a:latin typeface="Arial"/>
                  </a:rPr>
                  <a:t>7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TextBox 29"/>
              <p:cNvSpPr/>
              <p:nvPr/>
            </p:nvSpPr>
            <p:spPr>
              <a:xfrm>
                <a:off x="987840" y="2742120"/>
                <a:ext cx="336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040"/>
                    </a:solidFill>
                    <a:latin typeface="Arial"/>
                  </a:rPr>
                  <a:t>5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TextBox 30"/>
              <p:cNvSpPr/>
              <p:nvPr/>
            </p:nvSpPr>
            <p:spPr>
              <a:xfrm>
                <a:off x="987840" y="3313800"/>
                <a:ext cx="336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040"/>
                    </a:solidFill>
                    <a:latin typeface="Arial"/>
                  </a:rPr>
                  <a:t>2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TextBox 31"/>
              <p:cNvSpPr/>
              <p:nvPr/>
            </p:nvSpPr>
            <p:spPr>
              <a:xfrm>
                <a:off x="1068120" y="3885840"/>
                <a:ext cx="258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04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4" name="矩形 49"/>
          <p:cNvSpPr/>
          <p:nvPr/>
        </p:nvSpPr>
        <p:spPr>
          <a:xfrm>
            <a:off x="2952360" y="1741320"/>
            <a:ext cx="956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79cd7"/>
                </a:solidFill>
                <a:latin typeface="Arial"/>
              </a:rPr>
              <a:t>75</a:t>
            </a:r>
            <a:r>
              <a:rPr b="1" lang="en-US" sz="1800" spc="-1" strike="noStrike">
                <a:solidFill>
                  <a:srgbClr val="679cd7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50"/>
          <p:cNvSpPr/>
          <p:nvPr/>
        </p:nvSpPr>
        <p:spPr>
          <a:xfrm>
            <a:off x="1643040" y="3443400"/>
            <a:ext cx="423720" cy="583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51"/>
          <p:cNvSpPr/>
          <p:nvPr/>
        </p:nvSpPr>
        <p:spPr>
          <a:xfrm>
            <a:off x="2390760" y="2903400"/>
            <a:ext cx="422280" cy="1123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52"/>
          <p:cNvSpPr/>
          <p:nvPr/>
        </p:nvSpPr>
        <p:spPr>
          <a:xfrm>
            <a:off x="3137040" y="2347920"/>
            <a:ext cx="422280" cy="1679400"/>
          </a:xfrm>
          <a:prstGeom prst="rect">
            <a:avLst/>
          </a:pr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53"/>
          <p:cNvSpPr/>
          <p:nvPr/>
        </p:nvSpPr>
        <p:spPr>
          <a:xfrm>
            <a:off x="2223000" y="2378160"/>
            <a:ext cx="8211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50</a:t>
            </a: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54"/>
          <p:cNvSpPr/>
          <p:nvPr/>
        </p:nvSpPr>
        <p:spPr>
          <a:xfrm>
            <a:off x="1476000" y="2930400"/>
            <a:ext cx="8211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25</a:t>
            </a: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圆角矩形 57"/>
          <p:cNvSpPr/>
          <p:nvPr/>
        </p:nvSpPr>
        <p:spPr>
          <a:xfrm>
            <a:off x="4497480" y="1347840"/>
            <a:ext cx="3547800" cy="2860560"/>
          </a:xfrm>
          <a:prstGeom prst="roundRect">
            <a:avLst>
              <a:gd name="adj" fmla="val 3542"/>
            </a:avLst>
          </a:pr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58"/>
          <p:cNvSpPr/>
          <p:nvPr/>
        </p:nvSpPr>
        <p:spPr>
          <a:xfrm>
            <a:off x="4707000" y="1484280"/>
            <a:ext cx="29527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图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图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图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图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图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图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F283-B390-4DF3-98B3-7A8932B2CA63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"/>
          <p:cNvSpPr/>
          <p:nvPr/>
        </p:nvSpPr>
        <p:spPr>
          <a:xfrm>
            <a:off x="1187280" y="336600"/>
            <a:ext cx="3672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9cd7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38"/>
          <p:cNvSpPr/>
          <p:nvPr/>
        </p:nvSpPr>
        <p:spPr>
          <a:xfrm>
            <a:off x="23328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39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饼形 57"/>
          <p:cNvSpPr/>
          <p:nvPr/>
        </p:nvSpPr>
        <p:spPr>
          <a:xfrm>
            <a:off x="4876920" y="1635120"/>
            <a:ext cx="2143080" cy="214488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2144880"/>
              <a:gd name="textAreaBottom" fmla="*/ 2145240 h 2144880"/>
            </a:gdLst>
            <a:ahLst/>
            <a:rect l="textAreaLeft" t="textAreaTop" r="textAreaRight" b="textAreaBottom"/>
            <a:pathLst>
              <a:path w="2144346" h="2144347">
                <a:moveTo>
                  <a:pt x="2042821" y="616764"/>
                </a:moveTo>
                <a:cubicBezTo>
                  <a:pt x="2229968" y="1015645"/>
                  <a:pt x="2154038" y="1488411"/>
                  <a:pt x="1851398" y="1808628"/>
                </a:cubicBezTo>
                <a:cubicBezTo>
                  <a:pt x="1548758" y="2128845"/>
                  <a:pt x="1081026" y="2231316"/>
                  <a:pt x="672226" y="2066960"/>
                </a:cubicBezTo>
                <a:cubicBezTo>
                  <a:pt x="263426" y="1902604"/>
                  <a:pt x="-3208" y="1504887"/>
                  <a:pt x="29" y="1064297"/>
                </a:cubicBezTo>
                <a:lnTo>
                  <a:pt x="1072173" y="1072174"/>
                </a:lnTo>
                <a:lnTo>
                  <a:pt x="2042821" y="616764"/>
                </a:lnTo>
                <a:close/>
              </a:path>
            </a:pathLst>
          </a:cu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饼形 58"/>
          <p:cNvSpPr/>
          <p:nvPr/>
        </p:nvSpPr>
        <p:spPr>
          <a:xfrm>
            <a:off x="4876920" y="1635120"/>
            <a:ext cx="2143080" cy="214488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2144880"/>
              <a:gd name="textAreaBottom" fmla="*/ 2145240 h 2144880"/>
            </a:gdLst>
            <a:ahLst/>
            <a:rect l="textAreaLeft" t="textAreaTop" r="textAreaRight" b="textAreaBottom"/>
            <a:pathLst>
              <a:path w="2144346" h="2144347">
                <a:moveTo>
                  <a:pt x="1072292" y="0"/>
                </a:moveTo>
                <a:cubicBezTo>
                  <a:pt x="1490696" y="46"/>
                  <a:pt x="1870850" y="243480"/>
                  <a:pt x="2045946" y="623485"/>
                </a:cubicBezTo>
                <a:lnTo>
                  <a:pt x="1072173" y="1072174"/>
                </a:lnTo>
                <a:cubicBezTo>
                  <a:pt x="1072213" y="714783"/>
                  <a:pt x="1072252" y="357391"/>
                  <a:pt x="1072292" y="0"/>
                </a:cubicBezTo>
                <a:close/>
              </a:path>
            </a:pathLst>
          </a:cu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饼形 59"/>
          <p:cNvSpPr/>
          <p:nvPr/>
        </p:nvSpPr>
        <p:spPr>
          <a:xfrm>
            <a:off x="4876920" y="1635120"/>
            <a:ext cx="2143080" cy="214488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2144880"/>
              <a:gd name="textAreaBottom" fmla="*/ 2145240 h 2144880"/>
            </a:gdLst>
            <a:ahLst/>
            <a:rect l="textAreaLeft" t="textAreaTop" r="textAreaRight" b="textAreaBottom"/>
            <a:pathLst>
              <a:path w="2144346" h="2144347">
                <a:moveTo>
                  <a:pt x="37" y="1081064"/>
                </a:moveTo>
                <a:cubicBezTo>
                  <a:pt x="-2334" y="795175"/>
                  <a:pt x="109575" y="520180"/>
                  <a:pt x="310895" y="317182"/>
                </a:cubicBezTo>
                <a:cubicBezTo>
                  <a:pt x="512216" y="114184"/>
                  <a:pt x="786274" y="-1"/>
                  <a:pt x="1072173" y="-1"/>
                </a:cubicBezTo>
                <a:lnTo>
                  <a:pt x="1072173" y="1072174"/>
                </a:lnTo>
                <a:lnTo>
                  <a:pt x="37" y="1081064"/>
                </a:lnTo>
                <a:close/>
              </a:path>
            </a:pathLst>
          </a:cu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组合 60"/>
          <p:cNvGrpSpPr/>
          <p:nvPr/>
        </p:nvGrpSpPr>
        <p:grpSpPr>
          <a:xfrm>
            <a:off x="5075280" y="1833480"/>
            <a:ext cx="1746360" cy="1747800"/>
            <a:chOff x="5075280" y="1833480"/>
            <a:chExt cx="1746360" cy="1747800"/>
          </a:xfrm>
        </p:grpSpPr>
        <p:sp>
          <p:nvSpPr>
            <p:cNvPr id="731" name="椭圆 61"/>
            <p:cNvSpPr/>
            <p:nvPr/>
          </p:nvSpPr>
          <p:spPr>
            <a:xfrm>
              <a:off x="5075280" y="1833480"/>
              <a:ext cx="1746360" cy="1747800"/>
            </a:xfrm>
            <a:prstGeom prst="ellipse">
              <a:avLst/>
            </a:prstGeom>
            <a:solidFill>
              <a:srgbClr val="0d0d0d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椭圆 62"/>
            <p:cNvSpPr/>
            <p:nvPr/>
          </p:nvSpPr>
          <p:spPr>
            <a:xfrm>
              <a:off x="5261040" y="2019240"/>
              <a:ext cx="1374840" cy="1375920"/>
            </a:xfrm>
            <a:prstGeom prst="ellipse">
              <a:avLst/>
            </a:prstGeom>
            <a:solidFill>
              <a:srgbClr val="f0e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矩形 63"/>
          <p:cNvSpPr/>
          <p:nvPr/>
        </p:nvSpPr>
        <p:spPr>
          <a:xfrm>
            <a:off x="7175160" y="1635120"/>
            <a:ext cx="97020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类别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c51b"/>
                </a:solidFill>
                <a:latin typeface="微软雅黑"/>
                <a:ea typeface="微软雅黑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64"/>
          <p:cNvSpPr/>
          <p:nvPr/>
        </p:nvSpPr>
        <p:spPr>
          <a:xfrm>
            <a:off x="7175160" y="2332080"/>
            <a:ext cx="97020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类别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9cd7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65"/>
          <p:cNvSpPr/>
          <p:nvPr/>
        </p:nvSpPr>
        <p:spPr>
          <a:xfrm>
            <a:off x="7175160" y="3029040"/>
            <a:ext cx="97020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类别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b046"/>
                </a:solidFill>
                <a:latin typeface="微软雅黑"/>
                <a:ea typeface="微软雅黑"/>
              </a:rPr>
              <a:t>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圆角矩形 66"/>
          <p:cNvSpPr/>
          <p:nvPr/>
        </p:nvSpPr>
        <p:spPr>
          <a:xfrm>
            <a:off x="738360" y="1351080"/>
            <a:ext cx="3547800" cy="2860560"/>
          </a:xfrm>
          <a:prstGeom prst="roundRect">
            <a:avLst>
              <a:gd name="adj" fmla="val 3542"/>
            </a:avLst>
          </a:pr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228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67"/>
          <p:cNvSpPr/>
          <p:nvPr/>
        </p:nvSpPr>
        <p:spPr>
          <a:xfrm>
            <a:off x="947880" y="1487520"/>
            <a:ext cx="29527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图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图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图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图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图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图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62"/>
          <p:cNvSpPr/>
          <p:nvPr/>
        </p:nvSpPr>
        <p:spPr>
          <a:xfrm>
            <a:off x="5462640" y="2336760"/>
            <a:ext cx="971640" cy="743040"/>
          </a:xfrm>
          <a:custGeom>
            <a:avLst/>
            <a:gdLst>
              <a:gd name="textAreaLeft" fmla="*/ 0 w 971640"/>
              <a:gd name="textAreaRight" fmla="*/ 972000 w 971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228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0" name="灯片编号占位符 3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4A66-2C3D-4A11-88FC-C76063109807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"/>
          <p:cNvSpPr/>
          <p:nvPr/>
        </p:nvSpPr>
        <p:spPr>
          <a:xfrm>
            <a:off x="1187280" y="336600"/>
            <a:ext cx="3672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9cd7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8"/>
          <p:cNvSpPr/>
          <p:nvPr/>
        </p:nvSpPr>
        <p:spPr>
          <a:xfrm>
            <a:off x="23328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9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831960" y="1203480"/>
          <a:ext cx="7412040" cy="3230280"/>
        </p:xfrm>
        <a:graphic>
          <a:graphicData uri="http://schemas.openxmlformats.org/drawingml/2006/table">
            <a:tbl>
              <a:tblPr/>
              <a:tblGrid>
                <a:gridCol w="1058760"/>
                <a:gridCol w="1058760"/>
                <a:gridCol w="1059120"/>
                <a:gridCol w="1058760"/>
                <a:gridCol w="1058760"/>
                <a:gridCol w="1058760"/>
                <a:gridCol w="1059120"/>
              </a:tblGrid>
              <a:tr h="385560"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e6fad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8ecd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e6fad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8ecd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e6fad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8ecd"/>
                    </a:solidFill>
                  </a:tcPr>
                </a:tc>
              </a:tr>
              <a:tr h="355680"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355680"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</a:tr>
              <a:tr h="355320"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355680"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</a:tr>
              <a:tr h="355680"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355680"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</a:tr>
              <a:tr h="355680"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355320"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lIns="141840" rIns="141840" tIns="70920" bIns="70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1840" marR="14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AutoShape 53"/>
          <p:cNvSpPr/>
          <p:nvPr/>
        </p:nvSpPr>
        <p:spPr>
          <a:xfrm>
            <a:off x="5607000" y="1249200"/>
            <a:ext cx="2997360" cy="687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5607000" y="2050920"/>
            <a:ext cx="2997360" cy="687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53"/>
          <p:cNvSpPr/>
          <p:nvPr/>
        </p:nvSpPr>
        <p:spPr>
          <a:xfrm>
            <a:off x="5607000" y="2854440"/>
            <a:ext cx="2997360" cy="687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53"/>
          <p:cNvSpPr/>
          <p:nvPr/>
        </p:nvSpPr>
        <p:spPr>
          <a:xfrm>
            <a:off x="5607000" y="3656160"/>
            <a:ext cx="2997360" cy="687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灯片编号占位符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E212-EA69-47CB-9F71-8EAAF0DF954B}" type="slidenum"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35"/>
          <p:cNvSpPr/>
          <p:nvPr/>
        </p:nvSpPr>
        <p:spPr>
          <a:xfrm>
            <a:off x="1403280" y="4395960"/>
            <a:ext cx="173988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36"/>
          <p:cNvSpPr/>
          <p:nvPr/>
        </p:nvSpPr>
        <p:spPr>
          <a:xfrm>
            <a:off x="1767960" y="44067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公司网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组合 25"/>
          <p:cNvGrpSpPr/>
          <p:nvPr/>
        </p:nvGrpSpPr>
        <p:grpSpPr>
          <a:xfrm>
            <a:off x="3197160" y="4386240"/>
            <a:ext cx="346320" cy="345960"/>
            <a:chOff x="3197160" y="4386240"/>
            <a:chExt cx="346320" cy="345960"/>
          </a:xfrm>
        </p:grpSpPr>
        <p:sp>
          <p:nvSpPr>
            <p:cNvPr id="753" name="圆角矩形 26"/>
            <p:cNvSpPr/>
            <p:nvPr/>
          </p:nvSpPr>
          <p:spPr>
            <a:xfrm>
              <a:off x="3197160" y="4386240"/>
              <a:ext cx="346320" cy="345960"/>
            </a:xfrm>
            <a:prstGeom prst="roundRect">
              <a:avLst>
                <a:gd name="adj" fmla="val 16667"/>
              </a:avLst>
            </a:prstGeom>
            <a:solidFill>
              <a:srgbClr val="91b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矩形 5"/>
            <p:cNvSpPr/>
            <p:nvPr/>
          </p:nvSpPr>
          <p:spPr>
            <a:xfrm>
              <a:off x="3236760" y="4449600"/>
              <a:ext cx="266760" cy="219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894192" h="1559964">
                  <a:moveTo>
                    <a:pt x="648072" y="196871"/>
                  </a:moveTo>
                  <a:cubicBezTo>
                    <a:pt x="398881" y="196871"/>
                    <a:pt x="196871" y="398881"/>
                    <a:pt x="196871" y="648072"/>
                  </a:cubicBezTo>
                  <a:cubicBezTo>
                    <a:pt x="196871" y="897263"/>
                    <a:pt x="398881" y="1099274"/>
                    <a:pt x="648072" y="1099273"/>
                  </a:cubicBezTo>
                  <a:cubicBezTo>
                    <a:pt x="897264" y="1099273"/>
                    <a:pt x="1099274" y="897263"/>
                    <a:pt x="1099273" y="648072"/>
                  </a:cubicBezTo>
                  <a:cubicBezTo>
                    <a:pt x="1099273" y="398881"/>
                    <a:pt x="897263" y="196871"/>
                    <a:pt x="648072" y="196871"/>
                  </a:cubicBezTo>
                  <a:close/>
                  <a:moveTo>
                    <a:pt x="648072" y="0"/>
                  </a:moveTo>
                  <a:cubicBezTo>
                    <a:pt x="1005992" y="0"/>
                    <a:pt x="1296144" y="290152"/>
                    <a:pt x="1296144" y="648072"/>
                  </a:cubicBezTo>
                  <a:cubicBezTo>
                    <a:pt x="1296144" y="732769"/>
                    <a:pt x="1279897" y="813671"/>
                    <a:pt x="1249233" y="887388"/>
                  </a:cubicBezTo>
                  <a:lnTo>
                    <a:pt x="1276129" y="906769"/>
                  </a:lnTo>
                  <a:lnTo>
                    <a:pt x="1285775" y="906769"/>
                  </a:lnTo>
                  <a:lnTo>
                    <a:pt x="1285775" y="913720"/>
                  </a:lnTo>
                  <a:lnTo>
                    <a:pt x="1837093" y="1311006"/>
                  </a:lnTo>
                  <a:cubicBezTo>
                    <a:pt x="1898676" y="1355383"/>
                    <a:pt x="1912624" y="1441282"/>
                    <a:pt x="1868247" y="1502865"/>
                  </a:cubicBezTo>
                  <a:cubicBezTo>
                    <a:pt x="1823869" y="1564448"/>
                    <a:pt x="1737970" y="1578396"/>
                    <a:pt x="1676387" y="1534019"/>
                  </a:cubicBezTo>
                  <a:lnTo>
                    <a:pt x="1095395" y="1115349"/>
                  </a:lnTo>
                  <a:cubicBezTo>
                    <a:pt x="979830" y="1227670"/>
                    <a:pt x="821948" y="1296144"/>
                    <a:pt x="648072" y="1296144"/>
                  </a:cubicBezTo>
                  <a:cubicBezTo>
                    <a:pt x="290152" y="1296145"/>
                    <a:pt x="0" y="1005992"/>
                    <a:pt x="0" y="648072"/>
                  </a:cubicBezTo>
                  <a:cubicBezTo>
                    <a:pt x="0" y="290152"/>
                    <a:pt x="290152" y="0"/>
                    <a:pt x="64807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标题 1"/>
          <p:cNvSpPr/>
          <p:nvPr/>
        </p:nvSpPr>
        <p:spPr>
          <a:xfrm>
            <a:off x="4543560" y="252360"/>
            <a:ext cx="3916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c51b"/>
                </a:solidFill>
                <a:latin typeface="微软雅黑"/>
                <a:ea typeface="微软雅黑"/>
              </a:rPr>
              <a:t>目录</a:t>
            </a:r>
            <a:br>
              <a:rPr sz="3600"/>
            </a:br>
            <a:r>
              <a:rPr b="1" lang="en-US" sz="1600" spc="-1" strike="noStrike">
                <a:solidFill>
                  <a:srgbClr val="96c51b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3" descr=""/>
          <p:cNvPicPr/>
          <p:nvPr/>
        </p:nvPicPr>
        <p:blipFill>
          <a:blip r:embed="rId1"/>
          <a:stretch/>
        </p:blipFill>
        <p:spPr>
          <a:xfrm>
            <a:off x="487440" y="1163520"/>
            <a:ext cx="1122120" cy="11098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4" descr=""/>
          <p:cNvPicPr/>
          <p:nvPr/>
        </p:nvPicPr>
        <p:blipFill>
          <a:blip r:embed="rId2"/>
          <a:stretch/>
        </p:blipFill>
        <p:spPr>
          <a:xfrm>
            <a:off x="1828800" y="1163520"/>
            <a:ext cx="1152360" cy="110988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6" descr=""/>
          <p:cNvPicPr/>
          <p:nvPr/>
        </p:nvPicPr>
        <p:blipFill>
          <a:blip r:embed="rId3"/>
          <a:stretch/>
        </p:blipFill>
        <p:spPr>
          <a:xfrm>
            <a:off x="3267000" y="1170000"/>
            <a:ext cx="1055880" cy="109692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8" descr=""/>
          <p:cNvPicPr/>
          <p:nvPr/>
        </p:nvPicPr>
        <p:blipFill>
          <a:blip r:embed="rId4"/>
          <a:stretch/>
        </p:blipFill>
        <p:spPr>
          <a:xfrm>
            <a:off x="1170000" y="2584440"/>
            <a:ext cx="1103400" cy="109692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9" descr=""/>
          <p:cNvPicPr/>
          <p:nvPr/>
        </p:nvPicPr>
        <p:blipFill>
          <a:blip r:embed="rId5"/>
          <a:stretch/>
        </p:blipFill>
        <p:spPr>
          <a:xfrm>
            <a:off x="2541600" y="2584440"/>
            <a:ext cx="11653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展望未来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2" name="灯片编号占位符 3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1917-3A8C-4D1F-9EE2-2660C6F803F7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"/>
          <p:cNvSpPr/>
          <p:nvPr/>
        </p:nvSpPr>
        <p:spPr>
          <a:xfrm>
            <a:off x="5148360" y="1880640"/>
            <a:ext cx="352728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亮亮图文旗舰店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https://liangliangtuwen.tmal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7"/>
          <p:cNvSpPr/>
          <p:nvPr/>
        </p:nvSpPr>
        <p:spPr>
          <a:xfrm>
            <a:off x="233280" y="25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8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"/>
          <p:cNvSpPr/>
          <p:nvPr/>
        </p:nvSpPr>
        <p:spPr>
          <a:xfrm>
            <a:off x="1187280" y="336600"/>
            <a:ext cx="3065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4"/>
          <p:cNvGrpSpPr/>
          <p:nvPr/>
        </p:nvGrpSpPr>
        <p:grpSpPr>
          <a:xfrm>
            <a:off x="395280" y="1389240"/>
            <a:ext cx="4876920" cy="2863800"/>
            <a:chOff x="395280" y="1389240"/>
            <a:chExt cx="4876920" cy="2863800"/>
          </a:xfrm>
        </p:grpSpPr>
        <p:pic>
          <p:nvPicPr>
            <p:cNvPr id="768" name="Picture 2" descr=""/>
            <p:cNvPicPr/>
            <p:nvPr/>
          </p:nvPicPr>
          <p:blipFill>
            <a:blip r:embed="rId1"/>
            <a:stretch/>
          </p:blipFill>
          <p:spPr>
            <a:xfrm>
              <a:off x="395280" y="1389240"/>
              <a:ext cx="4876920" cy="28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同心圆 25"/>
            <p:cNvSpPr/>
            <p:nvPr/>
          </p:nvSpPr>
          <p:spPr>
            <a:xfrm>
              <a:off x="2354760" y="2057760"/>
              <a:ext cx="930960" cy="930960"/>
            </a:xfrm>
            <a:custGeom>
              <a:avLst/>
              <a:gdLst>
                <a:gd name="textAreaLeft" fmla="*/ 0 w 930960"/>
                <a:gd name="textAreaRight" fmla="*/ 931320 w 930960"/>
                <a:gd name="textAreaTop" fmla="*/ 0 h 930960"/>
                <a:gd name="textAreaBottom" fmla="*/ 931320 h 930960"/>
              </a:gdLst>
              <a:ahLst/>
              <a:rect l="textAreaLeft" t="textAreaTop" r="textAreaRight" b="textAreaBottom"/>
              <a:pathLst>
                <a:path w="1471448" h="1471448">
                  <a:moveTo>
                    <a:pt x="549239" y="401655"/>
                  </a:moveTo>
                  <a:lnTo>
                    <a:pt x="1125221" y="735725"/>
                  </a:lnTo>
                  <a:lnTo>
                    <a:pt x="549239" y="1069794"/>
                  </a:lnTo>
                  <a:lnTo>
                    <a:pt x="549239" y="401655"/>
                  </a:lnTo>
                  <a:close/>
                  <a:moveTo>
                    <a:pt x="735724" y="168172"/>
                  </a:moveTo>
                  <a:cubicBezTo>
                    <a:pt x="422274" y="168172"/>
                    <a:pt x="168172" y="422274"/>
                    <a:pt x="168172" y="735724"/>
                  </a:cubicBezTo>
                  <a:cubicBezTo>
                    <a:pt x="168172" y="1049174"/>
                    <a:pt x="422274" y="1303276"/>
                    <a:pt x="735724" y="1303276"/>
                  </a:cubicBezTo>
                  <a:cubicBezTo>
                    <a:pt x="1049174" y="1303276"/>
                    <a:pt x="1303276" y="1049174"/>
                    <a:pt x="1303276" y="735724"/>
                  </a:cubicBezTo>
                  <a:cubicBezTo>
                    <a:pt x="1303276" y="422274"/>
                    <a:pt x="1049174" y="168172"/>
                    <a:pt x="735724" y="168172"/>
                  </a:cubicBezTo>
                  <a:close/>
                  <a:moveTo>
                    <a:pt x="735724" y="0"/>
                  </a:moveTo>
                  <a:cubicBezTo>
                    <a:pt x="1142053" y="0"/>
                    <a:pt x="1471448" y="329395"/>
                    <a:pt x="1471448" y="735724"/>
                  </a:cubicBezTo>
                  <a:cubicBezTo>
                    <a:pt x="1471448" y="1142053"/>
                    <a:pt x="1142053" y="1471448"/>
                    <a:pt x="735724" y="1471448"/>
                  </a:cubicBezTo>
                  <a:cubicBezTo>
                    <a:pt x="329395" y="1471448"/>
                    <a:pt x="0" y="1142053"/>
                    <a:pt x="0" y="735724"/>
                  </a:cubicBezTo>
                  <a:cubicBezTo>
                    <a:pt x="0" y="329395"/>
                    <a:pt x="329395" y="0"/>
                    <a:pt x="735724" y="0"/>
                  </a:cubicBezTo>
                  <a:close/>
                </a:path>
              </a:pathLst>
            </a:custGeom>
            <a:solidFill>
              <a:srgbClr val="ffff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19188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矩形 13"/>
            <p:cNvSpPr/>
            <p:nvPr/>
          </p:nvSpPr>
          <p:spPr>
            <a:xfrm>
              <a:off x="1775160" y="3070080"/>
              <a:ext cx="203112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9188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视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76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1b921"/>
                </a:solidFill>
                <a:latin typeface="微软雅黑"/>
              </a:rPr>
              <a:t>感谢聆听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2" name="TextBox 5"/>
          <p:cNvSpPr/>
          <p:nvPr/>
        </p:nvSpPr>
        <p:spPr>
          <a:xfrm>
            <a:off x="3000240" y="284004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b046"/>
                </a:solidFill>
                <a:latin typeface="微软雅黑"/>
                <a:ea typeface="微软雅黑"/>
              </a:rPr>
              <a:t>THA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组合 16"/>
          <p:cNvGrpSpPr/>
          <p:nvPr/>
        </p:nvGrpSpPr>
        <p:grpSpPr>
          <a:xfrm>
            <a:off x="1100160" y="887400"/>
            <a:ext cx="6943680" cy="1009800"/>
            <a:chOff x="1100160" y="887400"/>
            <a:chExt cx="6943680" cy="1009800"/>
          </a:xfrm>
        </p:grpSpPr>
        <p:pic>
          <p:nvPicPr>
            <p:cNvPr id="774" name="Picture 3" descr=""/>
            <p:cNvPicPr/>
            <p:nvPr/>
          </p:nvPicPr>
          <p:blipFill>
            <a:blip r:embed="rId1"/>
            <a:stretch/>
          </p:blipFill>
          <p:spPr>
            <a:xfrm>
              <a:off x="1100160" y="888480"/>
              <a:ext cx="1308240" cy="100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4" descr=""/>
            <p:cNvPicPr/>
            <p:nvPr/>
          </p:nvPicPr>
          <p:blipFill>
            <a:blip r:embed="rId2"/>
            <a:stretch/>
          </p:blipFill>
          <p:spPr>
            <a:xfrm>
              <a:off x="2430360" y="888480"/>
              <a:ext cx="1469880" cy="100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6" descr=""/>
            <p:cNvPicPr/>
            <p:nvPr/>
          </p:nvPicPr>
          <p:blipFill>
            <a:blip r:embed="rId3"/>
            <a:stretch/>
          </p:blipFill>
          <p:spPr>
            <a:xfrm>
              <a:off x="3922200" y="888480"/>
              <a:ext cx="1418040" cy="10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8" descr=""/>
            <p:cNvPicPr/>
            <p:nvPr/>
          </p:nvPicPr>
          <p:blipFill>
            <a:blip r:embed="rId4"/>
            <a:stretch/>
          </p:blipFill>
          <p:spPr>
            <a:xfrm>
              <a:off x="5362200" y="887400"/>
              <a:ext cx="130932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9" descr=""/>
            <p:cNvPicPr/>
            <p:nvPr/>
          </p:nvPicPr>
          <p:blipFill>
            <a:blip r:embed="rId5"/>
            <a:stretch/>
          </p:blipFill>
          <p:spPr>
            <a:xfrm>
              <a:off x="6693480" y="887400"/>
              <a:ext cx="1350360" cy="10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9" name="矩形 22"/>
          <p:cNvSpPr/>
          <p:nvPr/>
        </p:nvSpPr>
        <p:spPr>
          <a:xfrm>
            <a:off x="3511440" y="3819600"/>
            <a:ext cx="173988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矩形 23"/>
          <p:cNvSpPr/>
          <p:nvPr/>
        </p:nvSpPr>
        <p:spPr>
          <a:xfrm>
            <a:off x="3876120" y="38322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公司网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组合 24"/>
          <p:cNvGrpSpPr/>
          <p:nvPr/>
        </p:nvGrpSpPr>
        <p:grpSpPr>
          <a:xfrm>
            <a:off x="5305320" y="3809880"/>
            <a:ext cx="346320" cy="346320"/>
            <a:chOff x="5305320" y="3809880"/>
            <a:chExt cx="346320" cy="346320"/>
          </a:xfrm>
        </p:grpSpPr>
        <p:sp>
          <p:nvSpPr>
            <p:cNvPr id="782" name="圆角矩形 25"/>
            <p:cNvSpPr/>
            <p:nvPr/>
          </p:nvSpPr>
          <p:spPr>
            <a:xfrm>
              <a:off x="5305320" y="3809880"/>
              <a:ext cx="346320" cy="346320"/>
            </a:xfrm>
            <a:prstGeom prst="roundRect">
              <a:avLst>
                <a:gd name="adj" fmla="val 16667"/>
              </a:avLst>
            </a:prstGeom>
            <a:solidFill>
              <a:srgbClr val="91b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矩形 5"/>
            <p:cNvSpPr/>
            <p:nvPr/>
          </p:nvSpPr>
          <p:spPr>
            <a:xfrm>
              <a:off x="5344920" y="3873240"/>
              <a:ext cx="266760" cy="2196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894192" h="1559964">
                  <a:moveTo>
                    <a:pt x="648072" y="196871"/>
                  </a:moveTo>
                  <a:cubicBezTo>
                    <a:pt x="398881" y="196871"/>
                    <a:pt x="196871" y="398881"/>
                    <a:pt x="196871" y="648072"/>
                  </a:cubicBezTo>
                  <a:cubicBezTo>
                    <a:pt x="196871" y="897263"/>
                    <a:pt x="398881" y="1099274"/>
                    <a:pt x="648072" y="1099273"/>
                  </a:cubicBezTo>
                  <a:cubicBezTo>
                    <a:pt x="897264" y="1099273"/>
                    <a:pt x="1099274" y="897263"/>
                    <a:pt x="1099273" y="648072"/>
                  </a:cubicBezTo>
                  <a:cubicBezTo>
                    <a:pt x="1099273" y="398881"/>
                    <a:pt x="897263" y="196871"/>
                    <a:pt x="648072" y="196871"/>
                  </a:cubicBezTo>
                  <a:close/>
                  <a:moveTo>
                    <a:pt x="648072" y="0"/>
                  </a:moveTo>
                  <a:cubicBezTo>
                    <a:pt x="1005992" y="0"/>
                    <a:pt x="1296144" y="290152"/>
                    <a:pt x="1296144" y="648072"/>
                  </a:cubicBezTo>
                  <a:cubicBezTo>
                    <a:pt x="1296144" y="732769"/>
                    <a:pt x="1279897" y="813671"/>
                    <a:pt x="1249233" y="887388"/>
                  </a:cubicBezTo>
                  <a:lnTo>
                    <a:pt x="1276129" y="906769"/>
                  </a:lnTo>
                  <a:lnTo>
                    <a:pt x="1285775" y="906769"/>
                  </a:lnTo>
                  <a:lnTo>
                    <a:pt x="1285775" y="913720"/>
                  </a:lnTo>
                  <a:lnTo>
                    <a:pt x="1837093" y="1311006"/>
                  </a:lnTo>
                  <a:cubicBezTo>
                    <a:pt x="1898676" y="1355383"/>
                    <a:pt x="1912624" y="1441282"/>
                    <a:pt x="1868247" y="1502865"/>
                  </a:cubicBezTo>
                  <a:cubicBezTo>
                    <a:pt x="1823869" y="1564448"/>
                    <a:pt x="1737970" y="1578396"/>
                    <a:pt x="1676387" y="1534019"/>
                  </a:cubicBezTo>
                  <a:lnTo>
                    <a:pt x="1095395" y="1115349"/>
                  </a:lnTo>
                  <a:cubicBezTo>
                    <a:pt x="979830" y="1227670"/>
                    <a:pt x="821948" y="1296144"/>
                    <a:pt x="648072" y="1296144"/>
                  </a:cubicBezTo>
                  <a:cubicBezTo>
                    <a:pt x="290152" y="1296145"/>
                    <a:pt x="0" y="1005992"/>
                    <a:pt x="0" y="648072"/>
                  </a:cubicBezTo>
                  <a:cubicBezTo>
                    <a:pt x="0" y="290152"/>
                    <a:pt x="290152" y="0"/>
                    <a:pt x="64807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AutoShape 53">
            <a:hlinkClick r:id="rId1" action="ppaction://hlinksldjump"/>
          </p:cNvPr>
          <p:cNvSpPr/>
          <p:nvPr/>
        </p:nvSpPr>
        <p:spPr>
          <a:xfrm>
            <a:off x="5607000" y="1249200"/>
            <a:ext cx="2997360" cy="687600"/>
          </a:xfrm>
          <a:prstGeom prst="rect">
            <a:avLst/>
          </a:pr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53">
            <a:hlinkClick r:id="rId2" action="ppaction://hlinksldjump"/>
          </p:cNvPr>
          <p:cNvSpPr/>
          <p:nvPr/>
        </p:nvSpPr>
        <p:spPr>
          <a:xfrm>
            <a:off x="5607000" y="2050920"/>
            <a:ext cx="2997360" cy="687600"/>
          </a:xfrm>
          <a:prstGeom prst="rect">
            <a:avLst/>
          </a:pr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3">
            <a:hlinkClick r:id="rId3" action="ppaction://hlinksldjump"/>
          </p:cNvPr>
          <p:cNvSpPr/>
          <p:nvPr/>
        </p:nvSpPr>
        <p:spPr>
          <a:xfrm>
            <a:off x="5607000" y="2854440"/>
            <a:ext cx="2997360" cy="687240"/>
          </a:xfrm>
          <a:prstGeom prst="rect">
            <a:avLst/>
          </a:pr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3">
            <a:hlinkClick r:id="rId4" action="ppaction://hlinksldjump"/>
          </p:cNvPr>
          <p:cNvSpPr/>
          <p:nvPr/>
        </p:nvSpPr>
        <p:spPr>
          <a:xfrm>
            <a:off x="5607000" y="3656160"/>
            <a:ext cx="2997360" cy="687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灯片编号占位符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B0A8-6A7D-4FFF-91B5-D953226E9D32}" type="slidenum"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5"/>
          <p:cNvSpPr/>
          <p:nvPr/>
        </p:nvSpPr>
        <p:spPr>
          <a:xfrm>
            <a:off x="1403280" y="4395960"/>
            <a:ext cx="173988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36"/>
          <p:cNvSpPr/>
          <p:nvPr/>
        </p:nvSpPr>
        <p:spPr>
          <a:xfrm>
            <a:off x="1767960" y="44067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公司网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25"/>
          <p:cNvGrpSpPr/>
          <p:nvPr/>
        </p:nvGrpSpPr>
        <p:grpSpPr>
          <a:xfrm>
            <a:off x="3197160" y="4386240"/>
            <a:ext cx="346320" cy="345960"/>
            <a:chOff x="3197160" y="4386240"/>
            <a:chExt cx="346320" cy="345960"/>
          </a:xfrm>
        </p:grpSpPr>
        <p:sp>
          <p:nvSpPr>
            <p:cNvPr id="356" name="圆角矩形 26"/>
            <p:cNvSpPr/>
            <p:nvPr/>
          </p:nvSpPr>
          <p:spPr>
            <a:xfrm>
              <a:off x="3197160" y="4386240"/>
              <a:ext cx="346320" cy="345960"/>
            </a:xfrm>
            <a:prstGeom prst="roundRect">
              <a:avLst>
                <a:gd name="adj" fmla="val 16667"/>
              </a:avLst>
            </a:prstGeom>
            <a:solidFill>
              <a:srgbClr val="91b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5"/>
            <p:cNvSpPr/>
            <p:nvPr/>
          </p:nvSpPr>
          <p:spPr>
            <a:xfrm>
              <a:off x="3236760" y="4449600"/>
              <a:ext cx="266760" cy="219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894192" h="1559964">
                  <a:moveTo>
                    <a:pt x="648072" y="196871"/>
                  </a:moveTo>
                  <a:cubicBezTo>
                    <a:pt x="398881" y="196871"/>
                    <a:pt x="196871" y="398881"/>
                    <a:pt x="196871" y="648072"/>
                  </a:cubicBezTo>
                  <a:cubicBezTo>
                    <a:pt x="196871" y="897263"/>
                    <a:pt x="398881" y="1099274"/>
                    <a:pt x="648072" y="1099273"/>
                  </a:cubicBezTo>
                  <a:cubicBezTo>
                    <a:pt x="897264" y="1099273"/>
                    <a:pt x="1099274" y="897263"/>
                    <a:pt x="1099273" y="648072"/>
                  </a:cubicBezTo>
                  <a:cubicBezTo>
                    <a:pt x="1099273" y="398881"/>
                    <a:pt x="897263" y="196871"/>
                    <a:pt x="648072" y="196871"/>
                  </a:cubicBezTo>
                  <a:close/>
                  <a:moveTo>
                    <a:pt x="648072" y="0"/>
                  </a:moveTo>
                  <a:cubicBezTo>
                    <a:pt x="1005992" y="0"/>
                    <a:pt x="1296144" y="290152"/>
                    <a:pt x="1296144" y="648072"/>
                  </a:cubicBezTo>
                  <a:cubicBezTo>
                    <a:pt x="1296144" y="732769"/>
                    <a:pt x="1279897" y="813671"/>
                    <a:pt x="1249233" y="887388"/>
                  </a:cubicBezTo>
                  <a:lnTo>
                    <a:pt x="1276129" y="906769"/>
                  </a:lnTo>
                  <a:lnTo>
                    <a:pt x="1285775" y="906769"/>
                  </a:lnTo>
                  <a:lnTo>
                    <a:pt x="1285775" y="913720"/>
                  </a:lnTo>
                  <a:lnTo>
                    <a:pt x="1837093" y="1311006"/>
                  </a:lnTo>
                  <a:cubicBezTo>
                    <a:pt x="1898676" y="1355383"/>
                    <a:pt x="1912624" y="1441282"/>
                    <a:pt x="1868247" y="1502865"/>
                  </a:cubicBezTo>
                  <a:cubicBezTo>
                    <a:pt x="1823869" y="1564448"/>
                    <a:pt x="1737970" y="1578396"/>
                    <a:pt x="1676387" y="1534019"/>
                  </a:cubicBezTo>
                  <a:lnTo>
                    <a:pt x="1095395" y="1115349"/>
                  </a:lnTo>
                  <a:cubicBezTo>
                    <a:pt x="979830" y="1227670"/>
                    <a:pt x="821948" y="1296144"/>
                    <a:pt x="648072" y="1296144"/>
                  </a:cubicBezTo>
                  <a:cubicBezTo>
                    <a:pt x="290152" y="1296145"/>
                    <a:pt x="0" y="1005992"/>
                    <a:pt x="0" y="648072"/>
                  </a:cubicBezTo>
                  <a:cubicBezTo>
                    <a:pt x="0" y="290152"/>
                    <a:pt x="290152" y="0"/>
                    <a:pt x="64807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标题 1"/>
          <p:cNvSpPr/>
          <p:nvPr/>
        </p:nvSpPr>
        <p:spPr>
          <a:xfrm>
            <a:off x="4543560" y="252360"/>
            <a:ext cx="3916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c51b"/>
                </a:solidFill>
                <a:latin typeface="微软雅黑"/>
                <a:ea typeface="微软雅黑"/>
              </a:rPr>
              <a:t>目录</a:t>
            </a:r>
            <a:br>
              <a:rPr sz="3600"/>
            </a:br>
            <a:r>
              <a:rPr b="1" lang="en-US" sz="1600" spc="-1" strike="noStrike">
                <a:solidFill>
                  <a:srgbClr val="96c51b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5"/>
          <a:stretch/>
        </p:blipFill>
        <p:spPr>
          <a:xfrm>
            <a:off x="487440" y="1163520"/>
            <a:ext cx="1122120" cy="1109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"/>
          <p:cNvPicPr/>
          <p:nvPr/>
        </p:nvPicPr>
        <p:blipFill>
          <a:blip r:embed="rId6"/>
          <a:stretch/>
        </p:blipFill>
        <p:spPr>
          <a:xfrm>
            <a:off x="1828800" y="1163520"/>
            <a:ext cx="1152360" cy="1109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7"/>
          <a:stretch/>
        </p:blipFill>
        <p:spPr>
          <a:xfrm>
            <a:off x="3267000" y="1170000"/>
            <a:ext cx="1055880" cy="1096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8"/>
          <a:stretch/>
        </p:blipFill>
        <p:spPr>
          <a:xfrm>
            <a:off x="1170000" y="2584440"/>
            <a:ext cx="1103400" cy="1096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9"/>
          <a:stretch/>
        </p:blipFill>
        <p:spPr>
          <a:xfrm>
            <a:off x="2541600" y="2584440"/>
            <a:ext cx="11653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53">
            <a:hlinkClick r:id="rId1" action="ppaction://hlinksldjump"/>
          </p:cNvPr>
          <p:cNvSpPr/>
          <p:nvPr/>
        </p:nvSpPr>
        <p:spPr>
          <a:xfrm>
            <a:off x="5607000" y="1249200"/>
            <a:ext cx="2997360" cy="687600"/>
          </a:xfrm>
          <a:prstGeom prst="rect">
            <a:avLst/>
          </a:pr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3">
            <a:hlinkClick r:id="rId2" action="ppaction://hlinksldjump"/>
          </p:cNvPr>
          <p:cNvSpPr/>
          <p:nvPr/>
        </p:nvSpPr>
        <p:spPr>
          <a:xfrm>
            <a:off x="5607000" y="2050920"/>
            <a:ext cx="2997360" cy="687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3"/>
          <p:cNvSpPr/>
          <p:nvPr/>
        </p:nvSpPr>
        <p:spPr>
          <a:xfrm>
            <a:off x="5607000" y="2854440"/>
            <a:ext cx="2997360" cy="687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3"/>
          <p:cNvSpPr/>
          <p:nvPr/>
        </p:nvSpPr>
        <p:spPr>
          <a:xfrm>
            <a:off x="5607000" y="3656160"/>
            <a:ext cx="2997360" cy="687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在此输入一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灯片编号占位符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36D9-AC25-4F22-AC42-35C5A5A1848F}" type="slidenum"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35"/>
          <p:cNvSpPr/>
          <p:nvPr/>
        </p:nvSpPr>
        <p:spPr>
          <a:xfrm>
            <a:off x="1403280" y="4395960"/>
            <a:ext cx="173988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36"/>
          <p:cNvSpPr/>
          <p:nvPr/>
        </p:nvSpPr>
        <p:spPr>
          <a:xfrm>
            <a:off x="1767960" y="44067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公司网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25"/>
          <p:cNvGrpSpPr/>
          <p:nvPr/>
        </p:nvGrpSpPr>
        <p:grpSpPr>
          <a:xfrm>
            <a:off x="3197160" y="4386240"/>
            <a:ext cx="346320" cy="345960"/>
            <a:chOff x="3197160" y="4386240"/>
            <a:chExt cx="346320" cy="345960"/>
          </a:xfrm>
        </p:grpSpPr>
        <p:sp>
          <p:nvSpPr>
            <p:cNvPr id="372" name="圆角矩形 26"/>
            <p:cNvSpPr/>
            <p:nvPr/>
          </p:nvSpPr>
          <p:spPr>
            <a:xfrm>
              <a:off x="3197160" y="4386240"/>
              <a:ext cx="346320" cy="345960"/>
            </a:xfrm>
            <a:prstGeom prst="roundRect">
              <a:avLst>
                <a:gd name="adj" fmla="val 16667"/>
              </a:avLst>
            </a:prstGeom>
            <a:solidFill>
              <a:srgbClr val="91b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5"/>
            <p:cNvSpPr/>
            <p:nvPr/>
          </p:nvSpPr>
          <p:spPr>
            <a:xfrm>
              <a:off x="3236760" y="4449600"/>
              <a:ext cx="266760" cy="219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894192" h="1559964">
                  <a:moveTo>
                    <a:pt x="648072" y="196871"/>
                  </a:moveTo>
                  <a:cubicBezTo>
                    <a:pt x="398881" y="196871"/>
                    <a:pt x="196871" y="398881"/>
                    <a:pt x="196871" y="648072"/>
                  </a:cubicBezTo>
                  <a:cubicBezTo>
                    <a:pt x="196871" y="897263"/>
                    <a:pt x="398881" y="1099274"/>
                    <a:pt x="648072" y="1099273"/>
                  </a:cubicBezTo>
                  <a:cubicBezTo>
                    <a:pt x="897264" y="1099273"/>
                    <a:pt x="1099274" y="897263"/>
                    <a:pt x="1099273" y="648072"/>
                  </a:cubicBezTo>
                  <a:cubicBezTo>
                    <a:pt x="1099273" y="398881"/>
                    <a:pt x="897263" y="196871"/>
                    <a:pt x="648072" y="196871"/>
                  </a:cubicBezTo>
                  <a:close/>
                  <a:moveTo>
                    <a:pt x="648072" y="0"/>
                  </a:moveTo>
                  <a:cubicBezTo>
                    <a:pt x="1005992" y="0"/>
                    <a:pt x="1296144" y="290152"/>
                    <a:pt x="1296144" y="648072"/>
                  </a:cubicBezTo>
                  <a:cubicBezTo>
                    <a:pt x="1296144" y="732769"/>
                    <a:pt x="1279897" y="813671"/>
                    <a:pt x="1249233" y="887388"/>
                  </a:cubicBezTo>
                  <a:lnTo>
                    <a:pt x="1276129" y="906769"/>
                  </a:lnTo>
                  <a:lnTo>
                    <a:pt x="1285775" y="906769"/>
                  </a:lnTo>
                  <a:lnTo>
                    <a:pt x="1285775" y="913720"/>
                  </a:lnTo>
                  <a:lnTo>
                    <a:pt x="1837093" y="1311006"/>
                  </a:lnTo>
                  <a:cubicBezTo>
                    <a:pt x="1898676" y="1355383"/>
                    <a:pt x="1912624" y="1441282"/>
                    <a:pt x="1868247" y="1502865"/>
                  </a:cubicBezTo>
                  <a:cubicBezTo>
                    <a:pt x="1823869" y="1564448"/>
                    <a:pt x="1737970" y="1578396"/>
                    <a:pt x="1676387" y="1534019"/>
                  </a:cubicBezTo>
                  <a:lnTo>
                    <a:pt x="1095395" y="1115349"/>
                  </a:lnTo>
                  <a:cubicBezTo>
                    <a:pt x="979830" y="1227670"/>
                    <a:pt x="821948" y="1296144"/>
                    <a:pt x="648072" y="1296144"/>
                  </a:cubicBezTo>
                  <a:cubicBezTo>
                    <a:pt x="290152" y="1296145"/>
                    <a:pt x="0" y="1005992"/>
                    <a:pt x="0" y="648072"/>
                  </a:cubicBezTo>
                  <a:cubicBezTo>
                    <a:pt x="0" y="290152"/>
                    <a:pt x="290152" y="0"/>
                    <a:pt x="64807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标题 1"/>
          <p:cNvSpPr/>
          <p:nvPr/>
        </p:nvSpPr>
        <p:spPr>
          <a:xfrm>
            <a:off x="4543560" y="252360"/>
            <a:ext cx="3916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c51b"/>
                </a:solidFill>
                <a:latin typeface="微软雅黑"/>
                <a:ea typeface="微软雅黑"/>
              </a:rPr>
              <a:t>目录</a:t>
            </a:r>
            <a:br>
              <a:rPr sz="3600"/>
            </a:br>
            <a:r>
              <a:rPr b="1" lang="en-US" sz="1600" spc="-1" strike="noStrike">
                <a:solidFill>
                  <a:srgbClr val="96c51b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487440" y="1163520"/>
            <a:ext cx="1122120" cy="1109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4"/>
          <a:stretch/>
        </p:blipFill>
        <p:spPr>
          <a:xfrm>
            <a:off x="1828800" y="1163520"/>
            <a:ext cx="1152360" cy="1109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5"/>
          <a:stretch/>
        </p:blipFill>
        <p:spPr>
          <a:xfrm>
            <a:off x="3267000" y="1170000"/>
            <a:ext cx="1055880" cy="1096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6"/>
          <a:stretch/>
        </p:blipFill>
        <p:spPr>
          <a:xfrm>
            <a:off x="1170000" y="2584440"/>
            <a:ext cx="1103400" cy="1096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"/>
          <p:cNvPicPr/>
          <p:nvPr/>
        </p:nvPicPr>
        <p:blipFill>
          <a:blip r:embed="rId7"/>
          <a:stretch/>
        </p:blipFill>
        <p:spPr>
          <a:xfrm>
            <a:off x="2541600" y="2584440"/>
            <a:ext cx="11653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矩形 17"/>
          <p:cNvSpPr/>
          <p:nvPr/>
        </p:nvSpPr>
        <p:spPr>
          <a:xfrm>
            <a:off x="2232000" y="1635120"/>
            <a:ext cx="1584360" cy="1230480"/>
          </a:xfrm>
          <a:prstGeom prst="rect">
            <a:avLst/>
          </a:prstGeom>
          <a:solidFill>
            <a:srgbClr val="679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1"/>
          <a:stretch/>
        </p:blipFill>
        <p:spPr>
          <a:xfrm>
            <a:off x="2344680" y="1747800"/>
            <a:ext cx="1351080" cy="1004760"/>
          </a:xfrm>
          <a:prstGeom prst="rect">
            <a:avLst/>
          </a:prstGeom>
          <a:ln w="0">
            <a:noFill/>
          </a:ln>
        </p:spPr>
      </p:pic>
      <p:sp>
        <p:nvSpPr>
          <p:cNvPr id="382" name="矩形 18"/>
          <p:cNvSpPr/>
          <p:nvPr/>
        </p:nvSpPr>
        <p:spPr>
          <a:xfrm>
            <a:off x="2124000" y="3003480"/>
            <a:ext cx="1432080" cy="11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8" descr=""/>
          <p:cNvPicPr/>
          <p:nvPr/>
        </p:nvPicPr>
        <p:blipFill>
          <a:blip r:embed="rId2"/>
          <a:stretch/>
        </p:blipFill>
        <p:spPr>
          <a:xfrm>
            <a:off x="2208240" y="3090960"/>
            <a:ext cx="1262160" cy="968400"/>
          </a:xfrm>
          <a:prstGeom prst="rect">
            <a:avLst/>
          </a:prstGeom>
          <a:ln w="0">
            <a:noFill/>
          </a:ln>
        </p:spPr>
      </p:pic>
      <p:sp>
        <p:nvSpPr>
          <p:cNvPr id="384" name="矩形 16"/>
          <p:cNvSpPr/>
          <p:nvPr/>
        </p:nvSpPr>
        <p:spPr>
          <a:xfrm>
            <a:off x="504720" y="2724120"/>
            <a:ext cx="1519200" cy="1143000"/>
          </a:xfrm>
          <a:prstGeom prst="rect">
            <a:avLst/>
          </a:prstGeom>
          <a:solidFill>
            <a:srgbClr val="e9b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600120" y="2840040"/>
            <a:ext cx="1326960" cy="911160"/>
          </a:xfrm>
          <a:prstGeom prst="rect">
            <a:avLst/>
          </a:prstGeom>
          <a:ln w="0">
            <a:noFill/>
          </a:ln>
        </p:spPr>
      </p:pic>
      <p:sp>
        <p:nvSpPr>
          <p:cNvPr id="386" name="矩形 7"/>
          <p:cNvSpPr/>
          <p:nvPr/>
        </p:nvSpPr>
        <p:spPr>
          <a:xfrm>
            <a:off x="690480" y="1473120"/>
            <a:ext cx="1398600" cy="1143000"/>
          </a:xfrm>
          <a:prstGeom prst="rect">
            <a:avLst/>
          </a:prstGeom>
          <a:solidFill>
            <a:srgbClr val="91b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4"/>
          <a:stretch/>
        </p:blipFill>
        <p:spPr>
          <a:xfrm>
            <a:off x="755640" y="1555920"/>
            <a:ext cx="1268280" cy="977760"/>
          </a:xfrm>
          <a:prstGeom prst="rect">
            <a:avLst/>
          </a:prstGeom>
          <a:ln w="0">
            <a:noFill/>
          </a:ln>
        </p:spPr>
      </p:pic>
      <p:sp>
        <p:nvSpPr>
          <p:cNvPr id="388" name="矩形 2"/>
          <p:cNvSpPr/>
          <p:nvPr/>
        </p:nvSpPr>
        <p:spPr>
          <a:xfrm>
            <a:off x="755640" y="2133720"/>
            <a:ext cx="1262160" cy="27648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输入图片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0" name="矩形 5"/>
          <p:cNvSpPr/>
          <p:nvPr/>
        </p:nvSpPr>
        <p:spPr>
          <a:xfrm>
            <a:off x="3960720" y="1374840"/>
            <a:ext cx="47005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1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647E-389E-4EDC-B35A-5C8E82A31D31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0"/>
          <p:cNvSpPr/>
          <p:nvPr/>
        </p:nvSpPr>
        <p:spPr>
          <a:xfrm>
            <a:off x="2344680" y="2386080"/>
            <a:ext cx="1351080" cy="27648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输入图片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1"/>
          <p:cNvSpPr/>
          <p:nvPr/>
        </p:nvSpPr>
        <p:spPr>
          <a:xfrm>
            <a:off x="590400" y="3375000"/>
            <a:ext cx="1336680" cy="27648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输入图片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22"/>
          <p:cNvSpPr/>
          <p:nvPr/>
        </p:nvSpPr>
        <p:spPr>
          <a:xfrm>
            <a:off x="2208240" y="3710160"/>
            <a:ext cx="1262160" cy="27648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输入图片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23"/>
          <p:cNvSpPr/>
          <p:nvPr/>
        </p:nvSpPr>
        <p:spPr>
          <a:xfrm>
            <a:off x="3960720" y="2643120"/>
            <a:ext cx="470052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亮亮图文旗舰店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https://liangliangtuwen.tmall.com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亮亮图文旗舰店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https://liangliangtuwen.tmal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亮亮图文旗舰店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https://liangliangtuwen.tmal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亮亮图文旗舰店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https://liangliangtuwen.tmal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1187280" y="336600"/>
            <a:ext cx="3065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b921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36"/>
          <p:cNvSpPr/>
          <p:nvPr/>
        </p:nvSpPr>
        <p:spPr>
          <a:xfrm>
            <a:off x="324720" y="250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7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2"/>
          <p:cNvSpPr/>
          <p:nvPr/>
        </p:nvSpPr>
        <p:spPr>
          <a:xfrm>
            <a:off x="0" y="1276200"/>
            <a:ext cx="5940360" cy="1295640"/>
          </a:xfrm>
          <a:prstGeom prst="rect">
            <a:avLst/>
          </a:pr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灯片编号占位符 1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0F04-46D4-4792-9453-F13A64DE492F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395280" y="1422360"/>
            <a:ext cx="52563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您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"/>
          <p:cNvSpPr/>
          <p:nvPr/>
        </p:nvSpPr>
        <p:spPr>
          <a:xfrm>
            <a:off x="0" y="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0" y="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0"/>
          <p:cNvSpPr/>
          <p:nvPr/>
        </p:nvSpPr>
        <p:spPr>
          <a:xfrm>
            <a:off x="3276720" y="2643120"/>
            <a:ext cx="5867280" cy="1800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6"/>
          <p:cNvSpPr/>
          <p:nvPr/>
        </p:nvSpPr>
        <p:spPr>
          <a:xfrm>
            <a:off x="3635280" y="2859120"/>
            <a:ext cx="518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亮亮图文旗舰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s://liangliangtuwen.tmall.com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亮亮图文旗舰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s://liangliangtuwen.tmal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亮亮图文旗舰店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s://liangliangtuwen.tmal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6012000" y="1276200"/>
            <a:ext cx="1681200" cy="1295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"/>
          <p:cNvPicPr/>
          <p:nvPr/>
        </p:nvPicPr>
        <p:blipFill>
          <a:blip r:embed="rId2"/>
          <a:stretch/>
        </p:blipFill>
        <p:spPr>
          <a:xfrm>
            <a:off x="588960" y="2643120"/>
            <a:ext cx="2622600" cy="180036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2"/>
          <p:cNvSpPr/>
          <p:nvPr/>
        </p:nvSpPr>
        <p:spPr>
          <a:xfrm>
            <a:off x="1187280" y="336600"/>
            <a:ext cx="3065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b921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3"/>
          <p:cNvSpPr/>
          <p:nvPr/>
        </p:nvSpPr>
        <p:spPr>
          <a:xfrm>
            <a:off x="324720" y="250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4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矩形 2"/>
          <p:cNvSpPr/>
          <p:nvPr/>
        </p:nvSpPr>
        <p:spPr>
          <a:xfrm>
            <a:off x="517680" y="1284120"/>
            <a:ext cx="8015040" cy="1206720"/>
          </a:xfrm>
          <a:prstGeom prst="rect">
            <a:avLst/>
          </a:prstGeom>
          <a:solidFill>
            <a:srgbClr val="96c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4" name="灯片编号占位符 1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13E9-24D3-4E4E-8D40-A199A9E489B1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923000" y="1636560"/>
            <a:ext cx="2498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您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0" y="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0" y="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"/>
          <p:cNvSpPr/>
          <p:nvPr/>
        </p:nvSpPr>
        <p:spPr>
          <a:xfrm>
            <a:off x="0" y="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>
            <a:off x="0" y="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517680" y="2571840"/>
            <a:ext cx="734832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20000"/>
              </a:lnSpc>
              <a:spcBef>
                <a:spcPts val="400"/>
              </a:spcBef>
              <a:buClr>
                <a:srgbClr val="96c51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400"/>
              </a:spcBef>
              <a:buClr>
                <a:srgbClr val="96c51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400"/>
              </a:spcBef>
              <a:buClr>
                <a:srgbClr val="96c51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400"/>
              </a:spcBef>
              <a:buClr>
                <a:srgbClr val="96c51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400"/>
              </a:spcBef>
              <a:buClr>
                <a:srgbClr val="96c51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7"/>
          <p:cNvGrpSpPr/>
          <p:nvPr/>
        </p:nvGrpSpPr>
        <p:grpSpPr>
          <a:xfrm>
            <a:off x="517680" y="1284120"/>
            <a:ext cx="3220920" cy="1206720"/>
            <a:chOff x="517680" y="1284120"/>
            <a:chExt cx="3220920" cy="1206720"/>
          </a:xfrm>
        </p:grpSpPr>
        <p:pic>
          <p:nvPicPr>
            <p:cNvPr id="422" name="Picture 8" descr=""/>
            <p:cNvPicPr/>
            <p:nvPr/>
          </p:nvPicPr>
          <p:blipFill>
            <a:blip r:embed="rId1"/>
            <a:stretch/>
          </p:blipFill>
          <p:spPr>
            <a:xfrm>
              <a:off x="517680" y="1284120"/>
              <a:ext cx="157284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9" descr=""/>
            <p:cNvPicPr/>
            <p:nvPr/>
          </p:nvPicPr>
          <p:blipFill>
            <a:blip r:embed="rId2"/>
            <a:stretch/>
          </p:blipFill>
          <p:spPr>
            <a:xfrm>
              <a:off x="2116800" y="1284120"/>
              <a:ext cx="1621800" cy="120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圆角矩形 6"/>
          <p:cNvSpPr/>
          <p:nvPr/>
        </p:nvSpPr>
        <p:spPr>
          <a:xfrm flipH="1">
            <a:off x="3798720" y="2089080"/>
            <a:ext cx="324000" cy="330120"/>
          </a:xfrm>
          <a:custGeom>
            <a:avLst/>
            <a:gdLst>
              <a:gd name="textAreaLeft" fmla="*/ 360 w 324000"/>
              <a:gd name="textAreaRight" fmla="*/ 324720 w 3240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4191468" h="4280163">
                <a:moveTo>
                  <a:pt x="3899675" y="466469"/>
                </a:moveTo>
                <a:lnTo>
                  <a:pt x="3899676" y="466469"/>
                </a:lnTo>
                <a:cubicBezTo>
                  <a:pt x="3899676" y="466469"/>
                  <a:pt x="3899676" y="466469"/>
                  <a:pt x="3899676" y="466469"/>
                </a:cubicBezTo>
                <a:lnTo>
                  <a:pt x="3899675" y="466469"/>
                </a:lnTo>
                <a:close/>
                <a:moveTo>
                  <a:pt x="294892" y="16"/>
                </a:moveTo>
                <a:cubicBezTo>
                  <a:pt x="369565" y="809"/>
                  <a:pt x="443934" y="30089"/>
                  <a:pt x="500302" y="87668"/>
                </a:cubicBezTo>
                <a:lnTo>
                  <a:pt x="3607882" y="3262009"/>
                </a:lnTo>
                <a:lnTo>
                  <a:pt x="3607883" y="758262"/>
                </a:lnTo>
                <a:cubicBezTo>
                  <a:pt x="3607883" y="597109"/>
                  <a:pt x="3738523" y="466469"/>
                  <a:pt x="3899676" y="466469"/>
                </a:cubicBezTo>
                <a:cubicBezTo>
                  <a:pt x="4060829" y="466469"/>
                  <a:pt x="4191468" y="597109"/>
                  <a:pt x="4191468" y="758262"/>
                </a:cubicBezTo>
                <a:lnTo>
                  <a:pt x="4191468" y="3987078"/>
                </a:lnTo>
                <a:cubicBezTo>
                  <a:pt x="4191468" y="4132022"/>
                  <a:pt x="4085786" y="4252283"/>
                  <a:pt x="3947123" y="4274088"/>
                </a:cubicBezTo>
                <a:cubicBezTo>
                  <a:pt x="3927988" y="4278087"/>
                  <a:pt x="3908158" y="4280163"/>
                  <a:pt x="3887843" y="4280163"/>
                </a:cubicBezTo>
                <a:lnTo>
                  <a:pt x="659028" y="4280162"/>
                </a:lnTo>
                <a:cubicBezTo>
                  <a:pt x="497875" y="4280162"/>
                  <a:pt x="367236" y="4149523"/>
                  <a:pt x="367235" y="3988370"/>
                </a:cubicBezTo>
                <a:cubicBezTo>
                  <a:pt x="367236" y="3827217"/>
                  <a:pt x="497875" y="3696577"/>
                  <a:pt x="659028" y="3696577"/>
                </a:cubicBezTo>
                <a:lnTo>
                  <a:pt x="3216628" y="3696577"/>
                </a:lnTo>
                <a:lnTo>
                  <a:pt x="83283" y="495916"/>
                </a:lnTo>
                <a:cubicBezTo>
                  <a:pt x="-29452" y="380759"/>
                  <a:pt x="-27489" y="196017"/>
                  <a:pt x="87668" y="83282"/>
                </a:cubicBezTo>
                <a:cubicBezTo>
                  <a:pt x="145246" y="26915"/>
                  <a:pt x="220220" y="-778"/>
                  <a:pt x="294892" y="16"/>
                </a:cubicBezTo>
                <a:close/>
              </a:path>
            </a:pathLst>
          </a:cu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1187280" y="336600"/>
            <a:ext cx="3065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b921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39"/>
          <p:cNvSpPr/>
          <p:nvPr/>
        </p:nvSpPr>
        <p:spPr>
          <a:xfrm>
            <a:off x="324720" y="250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0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9" name="灯片编号占位符 1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3729-EFB4-478A-9DB5-933A09E93F10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28480" y="2571840"/>
            <a:ext cx="64198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2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4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您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7"/>
          <p:cNvSpPr/>
          <p:nvPr/>
        </p:nvSpPr>
        <p:spPr>
          <a:xfrm>
            <a:off x="528480" y="1284120"/>
            <a:ext cx="8147160" cy="12067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6" descr=""/>
          <p:cNvPicPr/>
          <p:nvPr/>
        </p:nvPicPr>
        <p:blipFill>
          <a:blip r:embed="rId1"/>
          <a:stretch/>
        </p:blipFill>
        <p:spPr>
          <a:xfrm>
            <a:off x="6980400" y="1284120"/>
            <a:ext cx="1695240" cy="12002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2"/>
          <p:cNvSpPr/>
          <p:nvPr/>
        </p:nvSpPr>
        <p:spPr>
          <a:xfrm>
            <a:off x="2556000" y="1636560"/>
            <a:ext cx="2500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您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圆角矩形 6"/>
          <p:cNvSpPr/>
          <p:nvPr/>
        </p:nvSpPr>
        <p:spPr>
          <a:xfrm>
            <a:off x="6613560" y="2089080"/>
            <a:ext cx="322200" cy="330120"/>
          </a:xfrm>
          <a:custGeom>
            <a:avLst/>
            <a:gdLst>
              <a:gd name="textAreaLeft" fmla="*/ 0 w 322200"/>
              <a:gd name="textAreaRight" fmla="*/ 322560 w 3222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4191468" h="4280163">
                <a:moveTo>
                  <a:pt x="3899675" y="466469"/>
                </a:moveTo>
                <a:lnTo>
                  <a:pt x="3899676" y="466469"/>
                </a:lnTo>
                <a:cubicBezTo>
                  <a:pt x="3899676" y="466469"/>
                  <a:pt x="3899676" y="466469"/>
                  <a:pt x="3899676" y="466469"/>
                </a:cubicBezTo>
                <a:lnTo>
                  <a:pt x="3899675" y="466469"/>
                </a:lnTo>
                <a:close/>
                <a:moveTo>
                  <a:pt x="294892" y="16"/>
                </a:moveTo>
                <a:cubicBezTo>
                  <a:pt x="369565" y="809"/>
                  <a:pt x="443934" y="30089"/>
                  <a:pt x="500302" y="87668"/>
                </a:cubicBezTo>
                <a:lnTo>
                  <a:pt x="3607882" y="3262009"/>
                </a:lnTo>
                <a:lnTo>
                  <a:pt x="3607883" y="758262"/>
                </a:lnTo>
                <a:cubicBezTo>
                  <a:pt x="3607883" y="597109"/>
                  <a:pt x="3738523" y="466469"/>
                  <a:pt x="3899676" y="466469"/>
                </a:cubicBezTo>
                <a:cubicBezTo>
                  <a:pt x="4060829" y="466469"/>
                  <a:pt x="4191468" y="597109"/>
                  <a:pt x="4191468" y="758262"/>
                </a:cubicBezTo>
                <a:lnTo>
                  <a:pt x="4191468" y="3987078"/>
                </a:lnTo>
                <a:cubicBezTo>
                  <a:pt x="4191468" y="4132022"/>
                  <a:pt x="4085786" y="4252283"/>
                  <a:pt x="3947123" y="4274088"/>
                </a:cubicBezTo>
                <a:cubicBezTo>
                  <a:pt x="3927988" y="4278087"/>
                  <a:pt x="3908158" y="4280163"/>
                  <a:pt x="3887843" y="4280163"/>
                </a:cubicBezTo>
                <a:lnTo>
                  <a:pt x="659028" y="4280162"/>
                </a:lnTo>
                <a:cubicBezTo>
                  <a:pt x="497875" y="4280162"/>
                  <a:pt x="367236" y="4149523"/>
                  <a:pt x="367235" y="3988370"/>
                </a:cubicBezTo>
                <a:cubicBezTo>
                  <a:pt x="367236" y="3827217"/>
                  <a:pt x="497875" y="3696577"/>
                  <a:pt x="659028" y="3696577"/>
                </a:cubicBezTo>
                <a:lnTo>
                  <a:pt x="3216628" y="3696577"/>
                </a:lnTo>
                <a:lnTo>
                  <a:pt x="83283" y="495916"/>
                </a:lnTo>
                <a:cubicBezTo>
                  <a:pt x="-29452" y="380759"/>
                  <a:pt x="-27489" y="196017"/>
                  <a:pt x="87668" y="83282"/>
                </a:cubicBezTo>
                <a:cubicBezTo>
                  <a:pt x="145246" y="26915"/>
                  <a:pt x="220220" y="-778"/>
                  <a:pt x="294892" y="16"/>
                </a:cubicBezTo>
                <a:close/>
              </a:path>
            </a:pathLst>
          </a:cu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1187280" y="336600"/>
            <a:ext cx="3065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b921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40"/>
          <p:cNvSpPr/>
          <p:nvPr/>
        </p:nvSpPr>
        <p:spPr>
          <a:xfrm>
            <a:off x="324720" y="250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41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五边形 19"/>
          <p:cNvSpPr/>
          <p:nvPr/>
        </p:nvSpPr>
        <p:spPr>
          <a:xfrm flipH="1">
            <a:off x="1547640" y="3147840"/>
            <a:ext cx="6840720" cy="1160640"/>
          </a:xfrm>
          <a:custGeom>
            <a:avLst/>
            <a:gdLst>
              <a:gd name="textAreaLeft" fmla="*/ 360 w 6840720"/>
              <a:gd name="textAreaRight" fmla="*/ 6841440 w 6840720"/>
              <a:gd name="textAreaTop" fmla="*/ 0 h 1160640"/>
              <a:gd name="textAreaBottom" fmla="*/ 1161000 h 11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68" y="0"/>
                </a:lnTo>
                <a:lnTo>
                  <a:pt x="21600" y="10800"/>
                </a:lnTo>
                <a:lnTo>
                  <a:pt x="197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6c51b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0" y="1347840"/>
            <a:ext cx="8675640" cy="1219320"/>
          </a:xfrm>
          <a:prstGeom prst="rect">
            <a:avLst/>
          </a:prstGeom>
          <a:solidFill>
            <a:srgbClr val="96c51b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86920" y="711360"/>
            <a:ext cx="568836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</a:rPr>
              <a:t>内容页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灯片编号占位符 3"/>
          <p:cNvSpPr/>
          <p:nvPr/>
        </p:nvSpPr>
        <p:spPr>
          <a:xfrm>
            <a:off x="7885080" y="4587840"/>
            <a:ext cx="55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8573-4373-4F53-B1D8-9788692BAD7C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4"/>
          <p:cNvSpPr/>
          <p:nvPr/>
        </p:nvSpPr>
        <p:spPr>
          <a:xfrm>
            <a:off x="1091520" y="26542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图片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6"/>
          <p:cNvSpPr/>
          <p:nvPr/>
        </p:nvSpPr>
        <p:spPr>
          <a:xfrm>
            <a:off x="8388360" y="2567160"/>
            <a:ext cx="287280" cy="1741320"/>
          </a:xfrm>
          <a:prstGeom prst="rect">
            <a:avLst/>
          </a:prstGeom>
          <a:solidFill>
            <a:srgbClr val="96c51b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866880" y="1452600"/>
            <a:ext cx="1307880" cy="10094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"/>
          <p:cNvPicPr/>
          <p:nvPr/>
        </p:nvPicPr>
        <p:blipFill>
          <a:blip r:embed="rId2"/>
          <a:stretch/>
        </p:blipFill>
        <p:spPr>
          <a:xfrm>
            <a:off x="3738600" y="1452600"/>
            <a:ext cx="1469880" cy="1009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3"/>
          <a:stretch/>
        </p:blipFill>
        <p:spPr>
          <a:xfrm>
            <a:off x="6772320" y="1455840"/>
            <a:ext cx="1419120" cy="1003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8" descr=""/>
          <p:cNvPicPr/>
          <p:nvPr/>
        </p:nvPicPr>
        <p:blipFill>
          <a:blip r:embed="rId4"/>
          <a:stretch/>
        </p:blipFill>
        <p:spPr>
          <a:xfrm>
            <a:off x="5700600" y="3219480"/>
            <a:ext cx="1309680" cy="10047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"/>
          <p:cNvPicPr/>
          <p:nvPr/>
        </p:nvPicPr>
        <p:blipFill>
          <a:blip r:embed="rId5"/>
          <a:stretch/>
        </p:blipFill>
        <p:spPr>
          <a:xfrm>
            <a:off x="3173400" y="3219480"/>
            <a:ext cx="1351080" cy="1004760"/>
          </a:xfrm>
          <a:prstGeom prst="rect">
            <a:avLst/>
          </a:prstGeom>
          <a:ln w="0">
            <a:noFill/>
          </a:ln>
        </p:spPr>
      </p:pic>
      <p:sp>
        <p:nvSpPr>
          <p:cNvPr id="449" name="矩形 25"/>
          <p:cNvSpPr/>
          <p:nvPr/>
        </p:nvSpPr>
        <p:spPr>
          <a:xfrm>
            <a:off x="4019040" y="26542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图片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6"/>
          <p:cNvSpPr/>
          <p:nvPr/>
        </p:nvSpPr>
        <p:spPr>
          <a:xfrm>
            <a:off x="7023960" y="26542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图片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27"/>
          <p:cNvSpPr/>
          <p:nvPr/>
        </p:nvSpPr>
        <p:spPr>
          <a:xfrm>
            <a:off x="5928840" y="4346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图片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8"/>
          <p:cNvSpPr/>
          <p:nvPr/>
        </p:nvSpPr>
        <p:spPr>
          <a:xfrm>
            <a:off x="3395880" y="4346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此输入图片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1187280" y="336600"/>
            <a:ext cx="3065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b921"/>
                </a:solidFill>
                <a:latin typeface="Impact"/>
                <a:ea typeface="微软雅黑"/>
              </a:rPr>
              <a:t>HERE IS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30"/>
          <p:cNvSpPr/>
          <p:nvPr/>
        </p:nvSpPr>
        <p:spPr>
          <a:xfrm>
            <a:off x="324720" y="250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31"/>
          <p:cNvSpPr/>
          <p:nvPr/>
        </p:nvSpPr>
        <p:spPr>
          <a:xfrm>
            <a:off x="89280" y="53820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12:03:51Z</dcterms:created>
  <dc:creator>willon</dc:creator>
  <dc:description/>
  <cp:keywords/>
  <dc:language>en-US</dc:language>
  <cp:lastModifiedBy>Administrator</cp:lastModifiedBy>
  <dcterms:modified xsi:type="dcterms:W3CDTF">2017-07-07T15:17:53Z</dcterms:modified>
  <cp:revision>291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